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3FD7-CD8B-4D69-B1B7-97D7E353DA7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y name is g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C2F-14DD-4FC7-9426-D41AC460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9CB-3AD0-4DC3-837E-C664C800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2CF-EF80-44CB-A05C-C779CEF1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8B0-44E7-43F0-9657-5BE0E219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16701-BCD9-4F9C-A87E-D3D38C11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ABFEF-BD65-419C-A931-1D9F1508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AA1DC-BB40-4595-9F68-655B9748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71B25-5EDE-468A-8382-6BF53CCC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CEC09-6853-4260-B434-289781ED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6434A-29ED-4B6A-B3B6-6E870AD8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9DF9A-6844-4EC9-977D-E2AC2216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C8C-26B2-49F7-9978-5E5DD4A3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9EBAD-C7E4-4341-B008-7665C1F3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27D3E-2CA6-4FD9-861B-FD16B29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E5D16-F4CD-4FBD-B9D2-9D9AF8ED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64686-4EA1-4FDC-AEF4-36DD576C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1ACE4-6B00-40A2-BCCC-87F53A5F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4FF3-01DC-471F-ACBF-D2FDFE75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BFD6C-6479-48C5-AB6C-C727CA41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F83D-C318-4335-9D87-9940BB63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7143-ED84-4901-9540-E5997372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374B2-743B-4466-8870-1623FC84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3BC-A497-4E11-AC38-38088AA0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22B7B-46A3-4B9D-9B19-B5E4DB1E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284C-1935-4619-A61E-68C4E258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BBD58-7FDA-40D7-BEA1-5A25BE8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928B-1A4D-43B6-810D-74BD7213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D9E7A-635C-4498-88A7-B22B7303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ED87-493C-4290-A051-0C49FCFF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0C31A-494F-4BFD-B629-753A6A91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BA48-4B38-4C45-B01A-9195F4F5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55EE-9B30-4889-BE0B-1FF1E376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13DBC-E68A-4FDB-ABA9-F6D85DC3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02F-B7CA-473B-9D5D-95FA58B5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0D977-FBD7-46A2-BAC2-0F832869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225A-2C43-4BBF-88C4-E8DC9666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D5282-D1F6-4311-BC21-0DB75102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FDDF-BA8F-458C-B3C4-0BE11E2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FD7E-DAA3-41CF-8F1E-02096811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BC1E5-406E-48CD-A479-CB55EDEA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610AB-FE76-4106-98CF-F3AB1BBC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A5A2-3809-4BE5-964C-3F7C8D04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51F27-295D-435B-ADD1-11F4CFE6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301BA-9FFF-417A-94AF-B321A2A4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160-7ECE-41CA-BEFC-09CC92CA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C337-5AFE-4689-BDFF-BA3DF2DD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FB473-9C61-4C5F-B07A-9958F68F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210C8-90B7-4BEF-9C99-F36C5892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C7D3E-055E-4340-B728-9C4ACE30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0949F-09C6-428C-BAE4-231B03BD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67056-6848-46D3-B44D-11801EB4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9656-DD9A-4405-9FD6-9F0857A8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9987E-3424-4E93-A355-8D04A472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2E16-FA82-4C50-A35A-D3F7BD77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B85F2-25B0-4CEF-B02E-03E0B69D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63F-A083-4591-A0C7-60F801E8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CC500-A968-4863-8973-1EA053D4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32453-F9C5-490F-A65D-95097B68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F0DED-E725-4CE5-96C9-D190C4F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B664-B840-45FB-BF8C-F9904518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E3EE-D435-455A-BE1E-A6E516A5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1A6FF-6067-451C-981F-B43B77EE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6C030-3807-4C12-9850-B81643CA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2ADBD-1AD8-49AF-BD2C-9B657A23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1AE13-C6E7-4931-852D-B69E827B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75811-0F79-452B-A0E0-34E6B14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7B0-0B5D-4148-9D7A-147616AA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F3F39-9D63-45ED-85A5-22138DD5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C125B-C8C9-4F44-BC36-15AEF96D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3116F-1191-4D52-95A6-6157B137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59B-ACF3-41DC-8800-1629C02D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39A-362B-4848-95BA-34160DBB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71F6-FF06-4C59-8AFB-AC0B9E70F25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ABA9-2419-47AB-94F6-C56B9C1C760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4848-3F2E-4989-9265-A4F8867CDAF0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86A3-D08C-43B5-98D1-AA5B55F29A38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92DE-8B47-4233-8BEB-48535ED2F522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834B-ADF4-4CF0-8764-D3DD8C1A796F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img.timeinc.net/Life/lifebooks/hillary/images/hillary.jpg&amp;imgrefurl=http://johnling.wordpress.com/&amp;h=340&amp;w=333&amp;sz=14&amp;hl=en&amp;start=6&amp;um=1&amp;tbnid=7IHzYBYya1VjhM:&amp;tbnh=119&amp;tbnw=117&amp;prev=/images%3Fq%3Dsir%2Bedmund%2Bhillary%26um%3D1%26hl%3Den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www.bio.davidson.edu/people/macampbell/Juniata/Hillary.jpg&amp;imgrefurl=http://www.bio.davidson.edu/people/macampbell/Juniata/trail.html&amp;h=400&amp;w=303&amp;sz=39&amp;hl=en&amp;start=4&amp;um=1&amp;tbnid=zkZhVJB1wBf-cM:&amp;tbnh=124&amp;tbnw=94&amp;prev=/images%3Fq%3Dsir%2Bedmund%2Bhillary%26um%3D1%26hl%3Den%26sa%3D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.nz/imgres?imgurl=http://cache.eb.com/eb/image%3Fid%3D11031%26rendTypeId%3D4&amp;imgrefurl=http://www.student.britannica.com/eb/art-11603/Sir-Edmund-Hillary-1956&amp;h=300&amp;w=234&amp;sz=20&amp;hl=en&amp;start=9&amp;tbnid=2lPRGa_tzp5rOM:&amp;tbnh=116&amp;tbnw=90&amp;prev=/images%3Fq%3Dsir%2Bedmund%2Bhilary%26gbv%3D2%26hl%3Den%26sa%3D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360" y="18302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-326880" y="0"/>
            <a:ext cx="9470880" cy="71042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755640" y="21337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00"/>
                </a:solidFill>
                <a:latin typeface="Gungsuh"/>
                <a:ea typeface="Arial"/>
              </a:rPr>
              <a:t>Is Sir Edmund Hillary and I the same and different</a:t>
            </a:r>
            <a:r>
              <a:rPr b="0" i="1" lang="en-NZ" sz="2400" spc="-1" strike="noStrike">
                <a:solidFill>
                  <a:srgbClr val="ff0000"/>
                </a:solidFill>
                <a:latin typeface="Gungsuh"/>
                <a:ea typeface="Arial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Gungsuh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9640" y="4941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33cc33"/>
                </a:solidFill>
                <a:latin typeface="Arial Rounded MT Bold"/>
                <a:ea typeface="Arial"/>
              </a:rPr>
              <a:t>An  analysis of  our Sir Edmund Hilary unit</a:t>
            </a:r>
            <a:r>
              <a:rPr b="1" i="1" lang="en-NZ" sz="2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75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4000" spc="-1" strike="noStrike">
                <a:solidFill>
                  <a:srgbClr val="ffff00"/>
                </a:solidFill>
                <a:latin typeface="Gungsuh"/>
              </a:rPr>
              <a:t>my qual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250920" y="249228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236000" y="1268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1125360"/>
            <a:ext cx="3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1700280"/>
            <a:ext cx="4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9640" y="263700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A great team pla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2060640"/>
            <a:ext cx="446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256536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4292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39640" y="35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I take charge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84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9640" y="4221000"/>
            <a:ext cx="22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I am hard working and determined</a:t>
            </a:r>
            <a:r>
              <a:rPr b="1" lang="en-GB" sz="18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148360" y="1052640"/>
            <a:ext cx="7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651640" y="191628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I love a physical challenge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48360" y="2133720"/>
            <a:ext cx="5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48360" y="3357720"/>
            <a:ext cx="5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651640" y="42926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b800"/>
                </a:solidFill>
                <a:latin typeface="Arial"/>
                <a:ea typeface="Arial"/>
              </a:rPr>
              <a:t>I love to take big risk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11280" y="21337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am persistent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148360" y="4508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80000" y="5445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'm physically f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651640" y="31417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have lots of courage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61960" cy="19494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 rot="5947200">
            <a:off x="2545560" y="394236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656" name="Music"/>
          <p:cNvSpPr/>
          <p:nvPr/>
        </p:nvSpPr>
        <p:spPr>
          <a:xfrm>
            <a:off x="7885080" y="5084640"/>
            <a:ext cx="720720" cy="648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85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385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3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30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66"/>
                </a:solidFill>
                <a:latin typeface="Arial"/>
              </a:rPr>
              <a:t>Sir Edmund Hillarys extreme qualities</a:t>
            </a: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7800">
            <a:off x="7020000" y="2349360"/>
            <a:ext cx="1398600" cy="142272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585400">
            <a:off x="7524360" y="3644640"/>
            <a:ext cx="1058760" cy="13968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95280" y="765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6836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5280" y="278136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386064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51280" y="765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5128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00000" y="170028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was determined in what he d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263700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Sir Edmund Hillary loved a physical challe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26920" y="3716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conquered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86900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He was determined and he pushed hard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84720" y="1773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56000" y="278136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loved  to take huge risks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5"/>
          <a:stretch/>
        </p:blipFill>
        <p:spPr>
          <a:xfrm rot="20291400">
            <a:off x="6659280" y="980640"/>
            <a:ext cx="1089000" cy="1349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3780000" y="2924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84720" y="3860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 was physically fit and strong mind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80000" y="378936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4869000"/>
            <a:ext cx="25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84720" y="4797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-252360" y="-17640"/>
            <a:ext cx="9721800" cy="687564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627280" y="765000"/>
            <a:ext cx="14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My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692280"/>
            <a:ext cx="857160" cy="11048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5292720" y="549360"/>
            <a:ext cx="151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Sir Edmund Hillary’s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635280" y="141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ffff00"/>
                </a:solidFill>
                <a:latin typeface="Bradley Hand ITC"/>
                <a:ea typeface="Arial"/>
              </a:rPr>
              <a:t>Simil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780000" y="1700280"/>
            <a:ext cx="1584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  <a:ea typeface="Arial"/>
              </a:rPr>
              <a:t>We love a physical challenge</a:t>
            </a:r>
            <a:r>
              <a:rPr b="0" lang="en-NZ" sz="20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64000" y="2565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take risk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76720" y="292428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  <a:ea typeface="Arial"/>
              </a:rPr>
              <a:t>We are determined</a:t>
            </a:r>
            <a:r>
              <a:rPr b="0" lang="en-NZ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12000" y="1989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156360" y="2924280"/>
            <a:ext cx="27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He was the first man to conquer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54560" y="393372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5280" y="5445000"/>
            <a:ext cx="698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2060640"/>
            <a:ext cx="24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419640" y="33577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are physically fit and strong mi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050920" y="595008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Sir Edmund Hillary and I are the same in many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1403280" y="692280"/>
            <a:ext cx="825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6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1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600"/>
                            </p:stCondLst>
                            <p:childTnLst>
                              <p:par>
                                <p:cTn id="1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6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74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24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16280" y="476280"/>
            <a:ext cx="487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learning go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 rot="1485600">
            <a:off x="4886280" y="1976400"/>
            <a:ext cx="2160720" cy="28796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50920" y="1700280"/>
            <a:ext cx="423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Bradley Hand ITC"/>
                <a:ea typeface="Arial"/>
              </a:rPr>
              <a:t>Improve my reading comprehension to increase my stanine score from four to si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46836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1152720" cy="10875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1636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7236000" y="3141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4788000" y="5229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684360" y="5516640"/>
            <a:ext cx="8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1680" y="53820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Exped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68360" y="1557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Bradley Hand ITC"/>
                <a:ea typeface="Arial"/>
              </a:rPr>
              <a:t>Four camps to su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47640" y="580536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76360" y="5300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earn to   identify key word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5229360"/>
            <a:ext cx="17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Learn to skim and scan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003640" y="537372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w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451640" y="3284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hr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03640" y="1628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fo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580000" y="3068640"/>
            <a:ext cx="16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Retelling in short sentences using key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651640" y="1773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eacher confere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96000" y="836640"/>
            <a:ext cx="20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867280" y="69228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 mad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21:23:28Z</dcterms:created>
  <dc:creator>Ministry of Education</dc:creator>
  <dc:description/>
  <dc:language>en-US</dc:language>
  <cp:lastModifiedBy>Student2</cp:lastModifiedBy>
  <dcterms:modified xsi:type="dcterms:W3CDTF">2008-04-15T00:47:30Z</dcterms:modified>
  <cp:revision>15</cp:revision>
  <dc:subject/>
  <dc:title>Title sl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