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BBCD-D678-4A6C-8669-2053779E5F5F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y name is g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E9F0-6C0A-4848-856A-05C5D89A3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C488-34C1-4BD9-8309-B688D690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338-290B-4362-89D7-5A62D5EFA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9523-3881-4E45-B9EE-BCCCE33F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B663C-CECD-4526-8E1B-C757E6E51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CAA7E0-4A71-4514-865C-F8917283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8097F-DF94-49E5-AFF8-A498445FB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C6B2E-2DCD-4B31-AEB3-8FA5159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E4D145-93FD-4FEA-BF60-458E89473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81EBA-3C9E-4497-B648-2567729C2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3D431D-4DEC-45B5-8408-61DD2AA6A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7CD2-4E1A-48E9-BF38-40AAA489A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10D40-2E92-4F50-8FDD-6FEB91D2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851E5-F943-475B-9B99-60B37B52D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FF9D6F-CC24-44EF-986D-8C8CE299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DF1939-D290-46B1-BB47-1FB251893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7E7671-B0E6-46C7-BE8E-553E4A86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07B8D-9516-4929-95C3-12AF8009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6D11D-7717-453F-A63D-ACEBD9B45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F121F-BDA1-4B5F-B9AD-83492A3F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33689-DB15-44A7-B66C-AA9A557E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C1A77-E417-48D4-BBF8-28CB56F7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433B-C0CE-4C66-84A5-11D134EBF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6CC54-1FA7-4508-81F8-3005E031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2719A-81AD-4947-A606-60549766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F078C-1FF3-4C9D-B771-DEB8E043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EFFB9-F13D-42B3-9C6D-9F22E2DE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A4B4-16FD-4AC4-82AD-99653E24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45EAE-739D-4A2A-8722-10E62DD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19F4F-8BD9-4362-8D7C-4AE57C12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C956F-E999-4196-89FD-C6A72D8C0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810A4-8A66-429D-B119-2928F026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6505E-18CD-4DC1-ACB8-29616571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5129-4712-49BB-8010-CD9598125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B6683-BC98-4DB5-9D69-DE13CEA93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F17401-6074-4270-A848-086D7931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DD072-0F1F-4422-8B6E-8E89464AA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1688-CEC1-4B05-9193-5DA0FC3E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8FD95-5050-4E77-8894-95157753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16E06-F86A-4094-B4D4-8318A516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42A25-F929-443D-BDE7-5A74E6F5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7DD57-FF08-4413-ADC3-FEDD333A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0443D-52EF-4CBF-A22C-9004BCEF7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0E840-D958-4F39-8A13-1815038AA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E415-C606-4E07-8A9B-435129480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57B993-646A-4EC4-9A27-0893D72D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1BCFE-0F36-48FB-91D4-FE0CCA62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8EDAD-EDC6-4A47-993D-61F1B388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0DAD9-DE90-445C-8C67-6FD2D830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7061C-39FD-4A08-81ED-2DF6785D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EC5A-7EC7-4422-A451-EADF8EF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9D2E-933E-4297-9D98-038B2EA7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521BC-1CEF-4C52-92EC-2BDD095C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10B5-8BD3-40C1-A806-82202BD1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751D52-0543-4F69-9DA8-B58493101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AB14-7C8E-4C06-B1C7-E696F4F75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57678F-4D50-4FAE-85C0-0BCC2456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7FE08-A590-4181-A987-BAB688EA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911CB-1A78-496C-8C5B-E8925887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B67EB3-485F-4EF8-8454-68822D2E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7DA403-8192-4352-934C-593362D0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399CE-1096-48CF-AFC8-16916415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D60F5-3171-483B-A4A8-95A3F503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37CBB-F203-4FEA-883C-2A6AE0D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50B07-5936-4C2A-B636-2DFC0FFD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70BDF-4B16-487A-A5FF-B006B536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6F21-B38F-4C52-8BBE-499E1FC4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E65EC-531B-45C3-9116-C3649BA5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10D9E-A249-44A7-8898-5F2B1254F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2F8C5-5371-41B2-B7EC-190A5B16A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8B56-8281-436E-B4C9-8DDB4CB2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4C83-24F1-4E79-8FC2-C33F765D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923E-5C94-4808-B74F-44B2E2C31F45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5E3-1B9E-4EE2-9486-D31BB893F2E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2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2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2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2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6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6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17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17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8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9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0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0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1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2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2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2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1D56-AD6D-462A-B68A-F773D854B543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9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9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30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0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2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2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3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3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34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34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34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35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35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35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35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36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36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36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37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37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8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8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8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9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9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9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0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0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40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40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41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512E-41E0-45E8-9574-0847F57DD188}" type="slidenum">
              <a:rPr b="0" lang="en-GB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D1C3-7214-4152-B4A1-A476255F556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48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50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51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51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51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6795F-D393-4E9B-BE7F-3117C50C7317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6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7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7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7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o.nz/imgres?imgurl=http://img.timeinc.net/Life/lifebooks/hillary/images/hillary.jpg&amp;imgrefurl=http://johnling.wordpress.com/&amp;h=340&amp;w=333&amp;sz=14&amp;hl=en&amp;start=6&amp;um=1&amp;tbnid=7IHzYBYya1VjhM:&amp;tbnh=119&amp;tbnw=117&amp;prev=/images%3Fq%3Dsir%2Bedmund%2Bhillary%26um%3D1%26hl%3Den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.nz/imgres?imgurl=http://www.bio.davidson.edu/people/macampbell/Juniata/Hillary.jpg&amp;imgrefurl=http://www.bio.davidson.edu/people/macampbell/Juniata/trail.html&amp;h=400&amp;w=303&amp;sz=39&amp;hl=en&amp;start=4&amp;um=1&amp;tbnid=zkZhVJB1wBf-cM:&amp;tbnh=124&amp;tbnw=94&amp;prev=/images%3Fq%3Dsir%2Bedmund%2Bhillary%26um%3D1%26hl%3Den%26sa%3DN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images.google.co.nz/imgres?imgurl=http://cache.eb.com/eb/image%3Fid%3D11031%26rendTypeId%3D4&amp;imgrefurl=http://www.student.britannica.com/eb/art-11603/Sir-Edmund-Hillary-1956&amp;h=300&amp;w=234&amp;sz=20&amp;hl=en&amp;start=9&amp;tbnid=2lPRGa_tzp5rOM:&amp;tbnh=116&amp;tbnw=90&amp;prev=/images%3Fq%3Dsir%2Bedmund%2Bhilary%26gbv%3D2%26hl%3Den%26sa%3DG" TargetMode="External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4360" y="183024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-326880" y="0"/>
            <a:ext cx="9470880" cy="7104240"/>
          </a:xfrm>
          <a:prstGeom prst="rect">
            <a:avLst/>
          </a:prstGeom>
          <a:ln w="0">
            <a:noFill/>
          </a:ln>
        </p:spPr>
      </p:pic>
      <p:sp>
        <p:nvSpPr>
          <p:cNvPr id="631" name=""/>
          <p:cNvSpPr/>
          <p:nvPr/>
        </p:nvSpPr>
        <p:spPr>
          <a:xfrm>
            <a:off x="755640" y="2133720"/>
            <a:ext cx="705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800" spc="-1" strike="noStrike">
                <a:solidFill>
                  <a:srgbClr val="ffff00"/>
                </a:solidFill>
                <a:latin typeface="Gungsuh"/>
                <a:ea typeface="Arial"/>
              </a:rPr>
              <a:t>Is Sir Edmund Hillary and I the same and different</a:t>
            </a:r>
            <a:r>
              <a:rPr b="0" i="1" lang="en-NZ" sz="2400" spc="-1" strike="noStrike">
                <a:solidFill>
                  <a:srgbClr val="ff0000"/>
                </a:solidFill>
                <a:latin typeface="Gungsuh"/>
                <a:ea typeface="Arial"/>
              </a:rPr>
              <a:t> </a:t>
            </a:r>
            <a:r>
              <a:rPr b="0" i="1" lang="en-NZ" sz="2400" spc="-1" strike="noStrike">
                <a:solidFill>
                  <a:srgbClr val="ffffff"/>
                </a:solidFill>
                <a:latin typeface="Gungsuh"/>
                <a:ea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39640" y="494172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400" spc="-1" strike="noStrike">
                <a:solidFill>
                  <a:srgbClr val="33cc33"/>
                </a:solidFill>
                <a:latin typeface="Arial Rounded MT Bold"/>
                <a:ea typeface="Arial"/>
              </a:rPr>
              <a:t>An  analysis of  our Sir Edmund Hilary unit</a:t>
            </a:r>
            <a:r>
              <a:rPr b="1" i="1" lang="en-NZ" sz="24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75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03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NZ" sz="4000" spc="-1" strike="noStrike">
                <a:solidFill>
                  <a:srgbClr val="ffff00"/>
                </a:solidFill>
                <a:latin typeface="Gungsuh"/>
              </a:rPr>
              <a:t>my qualiti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"/>
          <p:cNvSpPr/>
          <p:nvPr/>
        </p:nvSpPr>
        <p:spPr>
          <a:xfrm>
            <a:off x="250920" y="2492280"/>
            <a:ext cx="165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7236000" y="126828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0" y="1125360"/>
            <a:ext cx="3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700280"/>
            <a:ext cx="46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39640" y="2637000"/>
            <a:ext cx="374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A great team play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11280" y="2060640"/>
            <a:ext cx="4464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2565360"/>
            <a:ext cx="50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84360" y="4292640"/>
            <a:ext cx="374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39640" y="35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I take charge</a:t>
            </a: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0" y="3284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39640" y="4221000"/>
            <a:ext cx="223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I am hard working and determined</a:t>
            </a:r>
            <a:r>
              <a:rPr b="1" lang="en-GB" sz="1800" spc="-1" strike="noStrike">
                <a:solidFill>
                  <a:srgbClr val="66ff66"/>
                </a:solidFill>
                <a:latin typeface="Arial Rounded MT Bold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5148360" y="1052640"/>
            <a:ext cx="72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651640" y="1916280"/>
            <a:ext cx="251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ffff00"/>
                </a:solidFill>
                <a:latin typeface="Arial Rounded MT Bold"/>
                <a:ea typeface="Arial"/>
              </a:rPr>
              <a:t>I love a physical challenge</a:t>
            </a:r>
            <a:r>
              <a:rPr b="0" lang="en-NZ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148360" y="2133720"/>
            <a:ext cx="50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5148360" y="3357720"/>
            <a:ext cx="57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651640" y="4292640"/>
            <a:ext cx="180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b800"/>
                </a:solidFill>
                <a:latin typeface="Arial"/>
                <a:ea typeface="Arial"/>
              </a:rPr>
              <a:t>I love to take big risk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611280" y="21337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am persistent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148360" y="450864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5580000" y="5445000"/>
            <a:ext cx="27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'm physically fi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5651640" y="314172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I have lots of courage</a:t>
            </a:r>
            <a:r>
              <a:rPr b="0" lang="en-NZ" sz="20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61960" cy="19494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 rot="5947200">
            <a:off x="2545560" y="394236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656" name="Music"/>
          <p:cNvSpPr/>
          <p:nvPr/>
        </p:nvSpPr>
        <p:spPr>
          <a:xfrm>
            <a:off x="7885080" y="5084640"/>
            <a:ext cx="720720" cy="648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385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385" fill="hold"/>
                                        <p:tgtEl>
                                          <p:spTgt spid="63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385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5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500"/>
                            </p:stCondLst>
                            <p:childTnLst>
                              <p:par>
                                <p:cTn id="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500"/>
                            </p:stCondLst>
                            <p:childTnLst>
                              <p:par>
                                <p:cTn id="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6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500"/>
                            </p:stCondLst>
                            <p:childTnLst>
                              <p:par>
                                <p:cTn id="6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4500"/>
                            </p:stCondLst>
                            <p:childTnLst>
                              <p:par>
                                <p:cTn id="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300"/>
                            </p:stCondLst>
                            <p:childTnLst>
                              <p:par>
                                <p:cTn id="7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7" dur="2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300"/>
                            </p:stCondLst>
                            <p:childTnLst>
                              <p:par>
                                <p:cTn id="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66ff66"/>
                </a:solidFill>
                <a:latin typeface="Arial"/>
              </a:rPr>
              <a:t>Sir Edmund Hillarys extreme qualities</a:t>
            </a:r>
            <a:r>
              <a:rPr b="0" lang="en-NZ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 rot="787800">
            <a:off x="7020000" y="2349360"/>
            <a:ext cx="1398600" cy="1422720"/>
          </a:xfrm>
          <a:prstGeom prst="rect">
            <a:avLst/>
          </a:prstGeom>
          <a:ln w="0">
            <a:noFill/>
          </a:ln>
        </p:spPr>
      </p:pic>
      <p:pic>
        <p:nvPicPr>
          <p:cNvPr id="6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 rot="20585400">
            <a:off x="7524360" y="3644640"/>
            <a:ext cx="1058760" cy="139680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395280" y="76500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46836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95280" y="2781360"/>
            <a:ext cx="9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95280" y="386064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851280" y="76500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851280" y="1700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900000" y="1700280"/>
            <a:ext cx="215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was determined in what he d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826920" y="2637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Sir Edmund Hillary loved a physical challe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826920" y="371628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00"/>
                </a:solidFill>
                <a:latin typeface="Arial"/>
                <a:ea typeface="Arial"/>
              </a:rPr>
              <a:t>He conquered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55640" y="4869000"/>
            <a:ext cx="201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He was determined and he pushed har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4284720" y="177336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56000" y="278136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loved  to take huge risks</a:t>
            </a:r>
            <a:r>
              <a:rPr b="0" lang="en-NZ" sz="2000" spc="-1" strike="noStrike">
                <a:solidFill>
                  <a:srgbClr val="ff33cc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5"/>
          <a:stretch/>
        </p:blipFill>
        <p:spPr>
          <a:xfrm rot="20291400">
            <a:off x="6659280" y="980640"/>
            <a:ext cx="1089000" cy="134928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>
            <a:off x="3780000" y="2924280"/>
            <a:ext cx="79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284720" y="386064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e was physically fit and strong mind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780000" y="3789360"/>
            <a:ext cx="43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4356000" y="4869000"/>
            <a:ext cx="25923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4284720" y="479736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500"/>
                                        <p:tgtEl>
                                          <p:spTgt spid="6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85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500"/>
                            </p:stCondLst>
                            <p:childTnLst>
                              <p:par>
                                <p:cTn id="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2000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" dur="2000"/>
                                        <p:tgtEl>
                                          <p:spTgt spid="6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6500"/>
                            </p:stCondLst>
                            <p:childTnLst>
                              <p:par>
                                <p:cTn id="11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500"/>
                            </p:stCondLst>
                            <p:childTnLst>
                              <p:par>
                                <p:cTn id="1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2500"/>
                            </p:stCondLst>
                            <p:childTnLst>
                              <p:par>
                                <p:cTn id="1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0" dur="2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-252360" y="-17640"/>
            <a:ext cx="9721800" cy="687564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/>
          <p:nvPr/>
        </p:nvSpPr>
        <p:spPr>
          <a:xfrm>
            <a:off x="2627280" y="765000"/>
            <a:ext cx="144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My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659640" y="692280"/>
            <a:ext cx="857160" cy="11048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5292720" y="549360"/>
            <a:ext cx="1511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 u="sng">
                <a:solidFill>
                  <a:srgbClr val="000000"/>
                </a:solidFill>
                <a:uFillTx/>
                <a:latin typeface="Bradley Hand ITC"/>
                <a:ea typeface="Arial"/>
              </a:rPr>
              <a:t>Sir Edmund Hillary’s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635280" y="141300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NZ" sz="2000" spc="-1" strike="noStrike">
                <a:solidFill>
                  <a:srgbClr val="ffff00"/>
                </a:solidFill>
                <a:latin typeface="Bradley Hand ITC"/>
                <a:ea typeface="Arial"/>
              </a:rPr>
              <a:t>Similar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780000" y="1700280"/>
            <a:ext cx="1584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  <a:ea typeface="Arial"/>
              </a:rPr>
              <a:t>We love a physical challenge</a:t>
            </a:r>
            <a:r>
              <a:rPr b="0" lang="en-NZ" sz="2000" spc="-1" strike="noStrike">
                <a:solidFill>
                  <a:srgbClr val="33cc33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3564000" y="256536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take risk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2924280"/>
            <a:ext cx="20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000000"/>
                </a:solidFill>
                <a:latin typeface="Arial"/>
                <a:ea typeface="Arial"/>
              </a:rPr>
              <a:t>We are determined</a:t>
            </a:r>
            <a:r>
              <a:rPr b="0" lang="en-NZ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12000" y="1989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cc00"/>
                </a:solidFill>
                <a:latin typeface="Arial"/>
                <a:ea typeface="Arial"/>
              </a:rPr>
              <a:t>He is known around the worl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6156360" y="2924280"/>
            <a:ext cx="2771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He was the first man to conquer the highest mount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6154560" y="3933720"/>
            <a:ext cx="199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66ff66"/>
                </a:solidFill>
                <a:latin typeface="Arial"/>
                <a:ea typeface="Arial"/>
              </a:rPr>
              <a:t>He was fear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395280" y="5445000"/>
            <a:ext cx="6985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900000" y="2060640"/>
            <a:ext cx="2448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3419640" y="335772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ffffff"/>
                </a:solidFill>
                <a:latin typeface="Arial"/>
                <a:ea typeface="Arial"/>
              </a:rPr>
              <a:t>We are physically fit and strong min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2050920" y="5950080"/>
            <a:ext cx="58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Sir Edmund Hillary and I are the same in many way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1403280" y="692280"/>
            <a:ext cx="8254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5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3000"/>
                            </p:stCondLst>
                            <p:childTnLst>
                              <p:par>
                                <p:cTn id="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0"/>
                            </p:stCondLst>
                            <p:childTnLst>
                              <p:par>
                                <p:cTn id="16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7600"/>
                            </p:stCondLst>
                            <p:childTnLst>
                              <p:par>
                                <p:cTn id="1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1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600"/>
                            </p:stCondLst>
                            <p:childTnLst>
                              <p:par>
                                <p:cTn id="1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600"/>
                            </p:stCondLst>
                            <p:childTnLst>
                              <p:par>
                                <p:cTn id="18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100"/>
                            </p:stCondLst>
                            <p:childTnLst>
                              <p:par>
                                <p:cTn id="1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6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740"/>
                            </p:stCondLst>
                            <p:childTnLst>
                              <p:par>
                                <p:cTn id="19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1240"/>
                            </p:stCondLst>
                            <p:childTnLst>
                              <p:par>
                                <p:cTn id="20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6" name=""/>
          <p:cNvSpPr/>
          <p:nvPr/>
        </p:nvSpPr>
        <p:spPr>
          <a:xfrm>
            <a:off x="116280" y="476280"/>
            <a:ext cx="487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learning goa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" descr=""/>
          <p:cNvPicPr/>
          <p:nvPr/>
        </p:nvPicPr>
        <p:blipFill>
          <a:blip r:embed="rId2"/>
          <a:stretch/>
        </p:blipFill>
        <p:spPr>
          <a:xfrm rot="1485600">
            <a:off x="4886280" y="1976400"/>
            <a:ext cx="2160720" cy="2879640"/>
          </a:xfrm>
          <a:prstGeom prst="rect">
            <a:avLst/>
          </a:prstGeom>
          <a:ln w="0">
            <a:noFill/>
          </a:ln>
        </p:spPr>
      </p:pic>
      <p:sp>
        <p:nvSpPr>
          <p:cNvPr id="698" name=""/>
          <p:cNvSpPr/>
          <p:nvPr/>
        </p:nvSpPr>
        <p:spPr>
          <a:xfrm>
            <a:off x="250920" y="1700280"/>
            <a:ext cx="4232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Bradley Hand ITC"/>
                <a:ea typeface="Arial"/>
              </a:rPr>
              <a:t>Improve my reading comprehension to increase my stanine score from four to six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5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700" name="" descr=""/>
          <p:cNvPicPr/>
          <p:nvPr/>
        </p:nvPicPr>
        <p:blipFill>
          <a:blip r:embed="rId2"/>
          <a:stretch/>
        </p:blipFill>
        <p:spPr>
          <a:xfrm>
            <a:off x="468360" y="5373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3"/>
          <a:stretch/>
        </p:blipFill>
        <p:spPr>
          <a:xfrm>
            <a:off x="5364000" y="0"/>
            <a:ext cx="1152720" cy="10875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4"/>
          <a:stretch/>
        </p:blipFill>
        <p:spPr>
          <a:xfrm>
            <a:off x="4716360" y="148428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5"/>
          <a:stretch/>
        </p:blipFill>
        <p:spPr>
          <a:xfrm>
            <a:off x="7236000" y="314172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6"/>
          <a:stretch/>
        </p:blipFill>
        <p:spPr>
          <a:xfrm>
            <a:off x="4788000" y="5229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684360" y="5516640"/>
            <a:ext cx="81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51680" y="538200"/>
            <a:ext cx="414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400" spc="-1" strike="noStrike">
                <a:solidFill>
                  <a:srgbClr val="000000"/>
                </a:solidFill>
                <a:latin typeface="Blackadder ITC"/>
              </a:rPr>
              <a:t>My Expedi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68360" y="1557360"/>
            <a:ext cx="381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Bradley Hand ITC"/>
                <a:ea typeface="Arial"/>
              </a:rPr>
              <a:t>Four camps to succ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547640" y="5805360"/>
            <a:ext cx="18003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76360" y="5300640"/>
            <a:ext cx="201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earn to   identify key words</a:t>
            </a:r>
            <a:r>
              <a:rPr b="0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867280" y="5229360"/>
            <a:ext cx="172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Learn to skim and scan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5003640" y="537372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w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451640" y="3284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thre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003640" y="1628640"/>
            <a:ext cx="81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600" spc="-1" strike="noStrike">
                <a:solidFill>
                  <a:srgbClr val="33cc33"/>
                </a:solidFill>
                <a:latin typeface="Arial"/>
              </a:rPr>
              <a:t>Camp fou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5580000" y="3068640"/>
            <a:ext cx="16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Retelling in short sentences using key wor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651640" y="1773360"/>
            <a:ext cx="280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  <a:ea typeface="Arial"/>
              </a:rPr>
              <a:t>Teacher conferencin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5796000" y="836640"/>
            <a:ext cx="201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867280" y="692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I mad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100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50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500"/>
                            </p:stCondLst>
                            <p:childTnLst>
                              <p:par>
                                <p:cTn id="24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500"/>
                            </p:stCondLst>
                            <p:childTnLst>
                              <p:par>
                                <p:cTn id="25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7500"/>
                            </p:stCondLst>
                            <p:childTnLst>
                              <p:par>
                                <p:cTn id="26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2T21:23:28Z</dcterms:created>
  <dc:creator>Ministry of Education</dc:creator>
  <dc:description/>
  <dc:language>en-US</dc:language>
  <cp:lastModifiedBy>Student2</cp:lastModifiedBy>
  <dcterms:modified xsi:type="dcterms:W3CDTF">2008-04-15T00:47:30Z</dcterms:modified>
  <cp:revision>15</cp:revision>
  <dc:subject/>
  <dc:title>Title slid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9</vt:r8>
  </property>
</Properties>
</file>