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15D1-A850-4344-883E-F306DD61A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4B47-7F20-425E-BA48-153EAEC35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0665-9318-4378-9CAB-55430E806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88A0-EEF5-4B66-87D1-3588D58BF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A4858-0624-4ABC-B424-12435A56A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08628-6C3A-490E-A358-5AFD6B284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33F03-EF36-4799-AB09-F80D5C8BE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90078-9D6E-4326-9E6E-002735178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EF985-1128-4E6D-B05D-A905F8E6E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F8054-2655-497B-BD2A-C11EAF1A3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A3D06-0D61-4471-AF3A-E21E7794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E8A2-60B0-4970-8C04-D4FC49ADE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E0713-B9FC-4B8D-98AB-020619A2F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1A491-E469-4939-96C4-65CDA7E4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50182-50BE-48FF-902B-D7045E04C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D71BA-5C1B-4F47-A560-6ACD8E4C7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9B601-3B68-476F-BE0C-301D40D9B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C47F-0541-43E2-9598-5F4F98624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A1D9-BFE0-4C4F-A8BB-F6DFD5293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963B-2DB4-4A1E-B16B-F0A22B06C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C7EA-6CE9-43BC-B4A8-078F15F60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7BD1-A809-465F-9BC7-10937D343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8D49-EEC5-4114-9820-FBC8833E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027E-92CF-492D-860F-7A824E43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982B6-5DE2-42FB-8FAF-6326A88151D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57FE3-9B43-491B-A514-23A4BC22A39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500" spc="-1" strike="noStrike">
                <a:solidFill>
                  <a:srgbClr val="b2b2b2"/>
                </a:solidFill>
                <a:latin typeface="Arial"/>
              </a:rPr>
              <a:t>BREAD MAKING</a:t>
            </a:r>
            <a:endParaRPr b="0" lang="en-US" sz="105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Room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By Pai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b2b2b2"/>
                </a:solidFill>
                <a:latin typeface="Arial"/>
              </a:rPr>
              <a:t>Facts about bread</a:t>
            </a:r>
            <a:endParaRPr b="0" lang="en-US" sz="6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Yeast feeds on sugar and warm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Yeast makes bread ri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here is leavened and unleavened bre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746680" y="3038400"/>
            <a:ext cx="1841400" cy="1654200"/>
          </a:xfrm>
          <a:prstGeom prst="rect">
            <a:avLst/>
          </a:prstGeom>
          <a:ln w="0">
            <a:noFill/>
          </a:ln>
        </p:spPr>
      </p:pic>
    </p:spTree>
  </p:cSld>
  <p:transition advTm="10000"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200" spc="-1" strike="noStrike">
                <a:solidFill>
                  <a:srgbClr val="b2b2b2"/>
                </a:solidFill>
                <a:latin typeface="Arial"/>
              </a:rPr>
              <a:t>Fair test</a:t>
            </a:r>
            <a:endParaRPr b="0" lang="en-US" sz="7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he yeast was very smel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he butter was lump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We put popcorn in our bre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It made big lumps in the bre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I would take out salt next time because there isn’t a lot in the mix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200" spc="-1" strike="noStrike">
                <a:solidFill>
                  <a:srgbClr val="b2b2b2"/>
                </a:solidFill>
                <a:latin typeface="Arial"/>
              </a:rPr>
              <a:t>Conclusion</a:t>
            </a:r>
            <a:endParaRPr b="0" lang="en-US" sz="7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Popcorn bread isn’t the nicest bread I have ma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I would not make popcorn bread ag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I would take out the salt next time because there isn’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a lot of salt in the brea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" y="2335320"/>
            <a:ext cx="4038480" cy="305424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1T21:50:22Z</dcterms:created>
  <dc:creator>room3</dc:creator>
  <dc:description/>
  <dc:language>en-US</dc:language>
  <cp:lastModifiedBy> Administrator</cp:lastModifiedBy>
  <dcterms:modified xsi:type="dcterms:W3CDTF">2007-08-30T01:28:22Z</dcterms:modified>
  <cp:revision>10</cp:revision>
  <dc:subject/>
  <dc:title>BREAD MAKING</dc:title>
</cp:coreProperties>
</file>