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50F4-5204-4B56-8C75-4EA52679D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0BAB-1245-4FCB-8074-B1A475C8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8A22-62F7-48B1-986C-E5180F780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E875-38E7-4749-AEB6-E146DFC60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A5FC-BBF1-478D-B545-43E14E2C9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3AB5-D7FE-4B4E-B6F3-6F1E5DE9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7E0E-D833-4B40-912D-E4A317A5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2DC4-72DF-4260-8B8B-C5E29F69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D18F-3616-40AF-B1E4-752BA718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5CB1-40E0-4B7A-822C-EF027AC2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922B-B96F-4126-8F98-5E336B16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B877-CDDD-43B2-886A-2B4D6A56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38CC-095E-4384-B0F4-0CCB607D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CDB2-F051-422F-BCBB-E0B9F8F2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761F-DF94-4959-B7CF-18857BA4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D3D2-C992-4422-9D0C-BAD991075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E7BE-6205-4FB9-A1E2-915D6D72C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97B8-4C14-492A-AF54-BDBC7324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6C77-2A2F-495A-90C6-F79A1602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BE39-C2D9-4191-9A6D-4B8F24A8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E625-A44C-4878-94E9-51B94D7A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201C-714E-4A5C-988F-5862F8F6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C0CB-C992-4032-AF5E-4C51BAA7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2F3B-55AE-47F6-AB2A-B80EDEEF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62EB-0186-4149-803B-7D14FDA3AC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E5B1-70A1-4FA9-9D90-BDEAE24F6F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500" spc="-1" strike="noStrike">
                <a:solidFill>
                  <a:srgbClr val="b2b2b2"/>
                </a:solidFill>
                <a:latin typeface="Arial"/>
              </a:rPr>
              <a:t>BREAD MAKING</a:t>
            </a:r>
            <a:endParaRPr b="0" lang="en-US" sz="105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Room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By Pai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b2b2b2"/>
                </a:solidFill>
                <a:latin typeface="Arial"/>
              </a:rPr>
              <a:t>Facts about bread</a:t>
            </a: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Yeast feeds on sugar and warm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Yeast makes bread ri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re is leavened and unleavened bre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46680" y="3038400"/>
            <a:ext cx="1841400" cy="165420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b2b2b2"/>
                </a:solidFill>
                <a:latin typeface="Arial"/>
              </a:rPr>
              <a:t>Fair test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 yeast was very sme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 butter was lump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We put popcorn in our bre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It made big lumps in the bre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I would take out salt next time because there isn’t a lot in the mix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b2b2b2"/>
                </a:solidFill>
                <a:latin typeface="Arial"/>
              </a:rPr>
              <a:t>Conclusion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Popcorn bread isn’t the nicest bread I have ma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I would not make popcorn bread ag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I would take out the salt next time because there isn’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 lot of salt in the brea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2335320"/>
            <a:ext cx="4038480" cy="305424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21:50:22Z</dcterms:created>
  <dc:creator>room3</dc:creator>
  <dc:description/>
  <dc:language>en-US</dc:language>
  <cp:lastModifiedBy> Administrator</cp:lastModifiedBy>
  <dcterms:modified xsi:type="dcterms:W3CDTF">2007-08-30T01:28:22Z</dcterms:modified>
  <cp:revision>10</cp:revision>
  <dc:subject/>
  <dc:title>BREAD MAKING</dc:title>
</cp:coreProperties>
</file>