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92B-08F5-48D7-B1AA-9285B558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F73-B221-4255-8423-F55A0EE9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5BB-3E84-48FA-AD02-3D35D7EF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763-3608-40CF-9819-59050CE2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105-746C-492A-B4C9-EA57F4B8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544-4093-4C69-A4F0-65B8D22A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3DA0-D251-4474-B91C-CA139298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2196-CF4F-4AB4-A129-776F1868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2E1D-6A4E-4331-9B4C-BC66302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D9E9-244F-4205-9856-5CBCA72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1153-1D5C-4CEC-9EFA-334A21A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38C-A442-4C10-A6B7-523CBC94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F14-3132-423F-85B0-F6C0FBB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4EA2-222B-4BFB-983F-E568AB2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511-4183-428E-B258-8DE7E08C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3B10-6C63-4228-BAF6-D5D094B4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7FE4-1BEC-4FBA-B6B4-170AFF7F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626-CE91-4CCB-A6E9-2BF1CD6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69F-5467-4576-81D7-D99BA356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015-53B4-49B8-A2B2-A070D18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FD0-E119-46BF-80BD-22DDFCAC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999-AD39-4B88-B85D-DD72B97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49F-A5DE-4097-9282-7CF8087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014-1E19-419A-A00B-0A693C5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2BAD-A22A-45B9-A05A-33B38D6A75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FA97-55E4-4353-AA62-33BB283290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500" spc="-1" strike="noStrike">
                <a:solidFill>
                  <a:srgbClr val="b2b2b2"/>
                </a:solidFill>
                <a:latin typeface="Arial"/>
              </a:rPr>
              <a:t>BREAD MAKING</a:t>
            </a:r>
            <a:endParaRPr b="0" lang="en-US" sz="10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oom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y Pa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b2b2b2"/>
                </a:solidFill>
                <a:latin typeface="Arial"/>
              </a:rPr>
              <a:t>Facts about bread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feeds on sugar and warm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makes bread r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re is leavened and unleavened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46680" y="3038400"/>
            <a:ext cx="1841400" cy="16542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Fair test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yeast was very sme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butter was lum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e put popcorn in our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t made big lumps in the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 would take out salt next time because there isn’t a lot in the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opcorn bread isn’t the nicest bread I hav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not make popcorn bread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take out the salt next time because there isn’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lot of salt in the br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50:22Z</dcterms:created>
  <dc:creator>room3</dc:creator>
  <dc:description/>
  <dc:language>en-US</dc:language>
  <cp:lastModifiedBy> Administrator</cp:lastModifiedBy>
  <dcterms:modified xsi:type="dcterms:W3CDTF">2007-08-30T01:28:22Z</dcterms:modified>
  <cp:revision>10</cp:revision>
  <dc:subject/>
  <dc:title>BREAD MAKING</dc:title>
</cp:coreProperties>
</file>