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5DFC-8AB7-423B-880B-5B295820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D31E-1BA9-418E-A022-CB68D522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5683-41DC-4BC6-82BA-495F0C5C5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2219-C052-467A-B581-EA4B46407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BD0C8-49FC-4481-A2F9-91D78658C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2A3B-9EB0-4F93-AAA6-7390F2C4A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CF49-1385-4FF2-A5AF-726AB8ED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86E5-0355-422F-8BAC-0FFCB6A9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E574-26C0-4985-8C1A-31328D2F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A78A-7D9D-4795-BF10-793D82D2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858F6-B68F-4A55-AF32-0FEC7BD9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ED1B-6B21-438B-85AB-D65899976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EE0F2-2731-4300-B5FE-AD39BD28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3D09-2F62-4F79-AAB4-E394DA4D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856C-46AA-485E-BE13-8FA0540F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40205-F1FF-4875-A299-CF78FB960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23620-5F29-4A55-B11D-81A6370AC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EF6D-9A85-4C58-A921-B5B5660D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9EA0-0B76-4992-BD98-52978F07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6FE7-FE90-4F1E-8345-0C30C6E6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16D-8755-4EBE-B576-4B4BCB62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22C6-3073-44CB-89CB-6E0B57326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D9C-2C18-486F-8093-7B3A63C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94A-6ADB-4EFC-B2B2-F3684E61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738F-BD61-4667-91A9-DD312B552CD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E535-0697-4743-AD1F-BDE54D6B7A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500" spc="-1" strike="noStrike">
                <a:solidFill>
                  <a:srgbClr val="b2b2b2"/>
                </a:solidFill>
                <a:latin typeface="Arial"/>
              </a:rPr>
              <a:t>BREAD MAKING</a:t>
            </a:r>
            <a:endParaRPr b="0" lang="en-US" sz="105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Room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y Pai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b2b2b2"/>
                </a:solidFill>
                <a:latin typeface="Arial"/>
              </a:rPr>
              <a:t>Facts about bread</a:t>
            </a:r>
            <a:endParaRPr b="0" lang="en-US" sz="6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Yeast feeds on sugar and warmt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Yeast makes bread ri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re is leavened and unleavened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46680" y="3038400"/>
            <a:ext cx="1841400" cy="1654200"/>
          </a:xfrm>
          <a:prstGeom prst="rect">
            <a:avLst/>
          </a:prstGeom>
          <a:ln w="0">
            <a:noFill/>
          </a:ln>
        </p:spPr>
      </p:pic>
    </p:spTree>
  </p:cSld>
  <p:transition advTm="10000"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b2b2b2"/>
                </a:solidFill>
                <a:latin typeface="Arial"/>
              </a:rPr>
              <a:t>Fair test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yeast was very smell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The butter was lum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We put popcorn in our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t made big lumps in the brea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I would take out salt next time because there isn’t a lot in the mixt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7200" spc="-1" strike="noStrike">
                <a:solidFill>
                  <a:srgbClr val="b2b2b2"/>
                </a:solidFill>
                <a:latin typeface="Arial"/>
              </a:rPr>
              <a:t>Conclusion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Popcorn bread isn’t the nicest bread I have mad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 would not make popcorn bread agai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I would take out the salt next time because there isn’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a lot of salt in the bre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2335320"/>
            <a:ext cx="4038480" cy="3054240"/>
          </a:xfrm>
          <a:prstGeom prst="rect">
            <a:avLst/>
          </a:prstGeom>
          <a:ln w="0">
            <a:noFill/>
          </a:ln>
        </p:spPr>
      </p:pic>
    </p:spTree>
  </p:cSld>
  <p:transition advTm="10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21:50:22Z</dcterms:created>
  <dc:creator>room3</dc:creator>
  <dc:description/>
  <dc:language>en-US</dc:language>
  <cp:lastModifiedBy> Administrator</cp:lastModifiedBy>
  <dcterms:modified xsi:type="dcterms:W3CDTF">2007-08-30T01:28:22Z</dcterms:modified>
  <cp:revision>10</cp:revision>
  <dc:subject/>
  <dc:title>BREAD MAKING</dc:title>
</cp:coreProperties>
</file>