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B4E-914F-4FBE-9B65-E95B1ADF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6CF-D59F-4B43-B648-24AD09E9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D15-305A-4426-A687-8C214488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174-84CE-4394-B213-3EE9F315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C9A-BCBF-401D-AD6C-489C174E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8241-51C5-4FF5-980C-B7F4CC86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E5F-C74B-42F0-AABE-86910E7E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F08-6B41-42CB-9F57-5EC6DD58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EC0-1893-49FA-A4B6-07FFFC44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CFE-B3DA-4F7C-AC71-62E481EE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01E-0167-402F-BB98-59573EAE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600-E310-457A-AD97-FB035888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B294-40E6-4B13-BD2A-09AF8D0B3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Gingerbread M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4978440"/>
            <a:ext cx="51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Blackadder ITC"/>
              </a:rPr>
              <a:t>By     Brina.  Carpe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657840" cy="410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19338600">
            <a:off x="1476720" y="3068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S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866000">
            <a:off x="1765080" y="242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S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35760" y="3716280"/>
            <a:ext cx="1308240" cy="1657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43640" y="2708280"/>
            <a:ext cx="1585800" cy="1297080"/>
          </a:xfrm>
          <a:prstGeom prst="wedgeEllipseCallout">
            <a:avLst>
              <a:gd name="adj1" fmla="val 60208"/>
              <a:gd name="adj2" fmla="val 61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I can’t get across the river. Can you help 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12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35760" y="3716280"/>
            <a:ext cx="130824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64000" y="620640"/>
            <a:ext cx="2303280" cy="201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Bradley Hand ITC"/>
              </a:rPr>
              <a:t>I will help you. Jump on my tai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1307880" cy="16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1307880" cy="165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19640" y="333360"/>
            <a:ext cx="2158920" cy="1873440"/>
          </a:xfrm>
          <a:prstGeom prst="cloudCallout">
            <a:avLst>
              <a:gd name="adj1" fmla="val -52060"/>
              <a:gd name="adj2" fmla="val 113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r to  heavy for my tail jump on my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13082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1308240" cy="1657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92360" y="476280"/>
            <a:ext cx="1584360" cy="1871640"/>
          </a:xfrm>
          <a:prstGeom prst="wedgeRoundRectCallout">
            <a:avLst>
              <a:gd name="adj1" fmla="val -57314"/>
              <a:gd name="adj2" fmla="val 1038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are getting to heavy for my back jump on my n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40000" y="1484280"/>
            <a:ext cx="13082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340000" y="1484280"/>
            <a:ext cx="1308240" cy="1657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981000"/>
            <a:ext cx="2016000" cy="1800360"/>
          </a:xfrm>
          <a:prstGeom prst="wedgeEllipseCallout">
            <a:avLst>
              <a:gd name="adj1" fmla="val 64486"/>
              <a:gd name="adj2" fmla="val 86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um, yum a gingerbread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7:05:39Z</dcterms:created>
  <dc:creator>Ministry of Education</dc:creator>
  <dc:description/>
  <dc:language>en-US</dc:language>
  <cp:lastModifiedBy>Ministry of Education</cp:lastModifiedBy>
  <dcterms:modified xsi:type="dcterms:W3CDTF">2007-05-06T02:59:51Z</dcterms:modified>
  <cp:revision>8</cp:revision>
  <dc:subject/>
  <dc:title>Slide 1</dc:title>
</cp:coreProperties>
</file>