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D830-C724-4E50-968A-AD4A0F2A1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C9DF-73E6-4DE9-84D7-FC3BD79F3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821E-3D13-4A63-987E-913BEE441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D672-4373-425F-9A76-B26E67AAE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3F96-B635-45A2-9C5E-4365E4AC5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AD53-CB6F-45E5-A0F1-A43D0128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DE51-688F-4D58-9C50-20E5B6B5A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3044-BEC2-4A7B-8338-4FCC6BDD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E774-2897-458B-BB73-70153865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0780-EF92-4FC6-AF54-53514CC7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D7F7-B500-4833-BD18-CBC6CE72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3108-D185-42CA-ABAC-1E3A9A5F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41C6-D49F-469B-A30C-ECAA112B6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d6009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he Gingerbread Ma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24000" y="4978440"/>
            <a:ext cx="51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Blackadder ITC"/>
              </a:rPr>
              <a:t>By     Brina.  Carpen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58920" y="620640"/>
            <a:ext cx="6657840" cy="4105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0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 rot="19338600">
            <a:off x="1476720" y="30682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SN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866000">
            <a:off x="1765080" y="24202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SN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835760" y="3716280"/>
            <a:ext cx="1308240" cy="1657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443640" y="2708280"/>
            <a:ext cx="1585800" cy="1297080"/>
          </a:xfrm>
          <a:prstGeom prst="wedgeEllipseCallout">
            <a:avLst>
              <a:gd name="adj1" fmla="val 60208"/>
              <a:gd name="adj2" fmla="val 61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I can’t get across the river. Can you help m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126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835760" y="3716280"/>
            <a:ext cx="1308240" cy="1657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64000" y="620640"/>
            <a:ext cx="2303280" cy="20163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Bradley Hand ITC"/>
              </a:rPr>
              <a:t>I will help you. Jump on my tai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48360" y="2924280"/>
            <a:ext cx="1307880" cy="165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148360" y="2924280"/>
            <a:ext cx="1307880" cy="1657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419640" y="333360"/>
            <a:ext cx="2158920" cy="1873440"/>
          </a:xfrm>
          <a:prstGeom prst="cloudCallout">
            <a:avLst>
              <a:gd name="adj1" fmla="val -52060"/>
              <a:gd name="adj2" fmla="val 113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Your to  heavy for my tail jump on my 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995640" y="1268280"/>
            <a:ext cx="130824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995640" y="1268280"/>
            <a:ext cx="1308240" cy="1657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492360" y="476280"/>
            <a:ext cx="1584360" cy="1871640"/>
          </a:xfrm>
          <a:prstGeom prst="wedgeRoundRectCallout">
            <a:avLst>
              <a:gd name="adj1" fmla="val -57314"/>
              <a:gd name="adj2" fmla="val 10386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You are getting to heavy for my back jump on my n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340000" y="1484280"/>
            <a:ext cx="130824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340000" y="1484280"/>
            <a:ext cx="1308240" cy="1657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11280" y="981000"/>
            <a:ext cx="2016000" cy="1800360"/>
          </a:xfrm>
          <a:prstGeom prst="wedgeEllipseCallout">
            <a:avLst>
              <a:gd name="adj1" fmla="val 64486"/>
              <a:gd name="adj2" fmla="val 86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Yum, yum a gingerbread 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7:05:39Z</dcterms:created>
  <dc:creator>Ministry of Education</dc:creator>
  <dc:description/>
  <dc:language>en-US</dc:language>
  <cp:lastModifiedBy>Ministry of Education</cp:lastModifiedBy>
  <dcterms:modified xsi:type="dcterms:W3CDTF">2007-05-06T02:59:51Z</dcterms:modified>
  <cp:revision>8</cp:revision>
  <dc:subject/>
  <dc:title>Slide 1</dc:title>
</cp:coreProperties>
</file>