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C10-CEFA-4A58-856E-2A8E6452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C94-1E49-4B8A-B4DD-92B67CAB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A3A-38EB-4740-B937-A9B25676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5E1-B570-462F-93E2-B09434A0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940-6D79-41A3-B53A-26D3D3F2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561-CDAE-4693-8655-70F9C8F1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7C6-6FCB-42A8-B0CD-B7892996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754-686A-4C75-95E1-50254F2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289-C74C-4794-885A-811564A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185-81A0-453D-A50C-D67DD5A4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1F8-37C5-4A9D-8245-3A1BF0A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BE9-1013-433E-9AF0-0B40E13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5F1F-F664-4B1F-9C27-6417B1379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Gingerbread M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9784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lackadder ITC"/>
              </a:rPr>
              <a:t>By     Brina.  Carp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57840" cy="410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9338600">
            <a:off x="1476720" y="3068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6000">
            <a:off x="1765080" y="242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43640" y="2708280"/>
            <a:ext cx="1585800" cy="1297080"/>
          </a:xfrm>
          <a:prstGeom prst="wedgeEllipseCallout">
            <a:avLst>
              <a:gd name="adj1" fmla="val 60208"/>
              <a:gd name="adj2" fmla="val 61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 can’t get across the river. Can you help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620640"/>
            <a:ext cx="2303280" cy="201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radley Hand ITC"/>
              </a:rPr>
              <a:t>I will help you. Jump on my tai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333360"/>
            <a:ext cx="2158920" cy="1873440"/>
          </a:xfrm>
          <a:prstGeom prst="cloudCallout">
            <a:avLst>
              <a:gd name="adj1" fmla="val -52060"/>
              <a:gd name="adj2" fmla="val 113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r to  heavy for my tail jump on my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476280"/>
            <a:ext cx="1584360" cy="1871640"/>
          </a:xfrm>
          <a:prstGeom prst="wedgeRoundRectCallout">
            <a:avLst>
              <a:gd name="adj1" fmla="val -57314"/>
              <a:gd name="adj2" fmla="val 103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are getting to heavy for my back jump on my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981000"/>
            <a:ext cx="2016000" cy="1800360"/>
          </a:xfrm>
          <a:prstGeom prst="wedgeEllipseCallout">
            <a:avLst>
              <a:gd name="adj1" fmla="val 64486"/>
              <a:gd name="adj2" fmla="val 86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um, yum a gingerbrea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05:39Z</dcterms:created>
  <dc:creator>Ministry of Education</dc:creator>
  <dc:description/>
  <dc:language>en-US</dc:language>
  <cp:lastModifiedBy>Ministry of Education</cp:lastModifiedBy>
  <dcterms:modified xsi:type="dcterms:W3CDTF">2007-05-06T02:59:51Z</dcterms:modified>
  <cp:revision>8</cp:revision>
  <dc:subject/>
  <dc:title>Slide 1</dc:title>
</cp:coreProperties>
</file>