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ACAF-6C6D-472B-BF56-804AB8CCB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30AD-7BC7-43C4-A909-D0119ED7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D15-669E-4BE0-A6E7-9B2148DF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808-98AA-4837-9FB9-6A87C1B6C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A5A1-9C09-407E-8485-71266010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90B-A368-4E05-81BE-C5AE6054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87C-B72B-4041-A328-B8E96F88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54C-8FC3-45BF-A6BA-709DB30D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225D-97D3-4A83-B388-7A6EFDFA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7D42-BAAC-4C34-9339-F381F4AB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A546-4840-45FA-8CE8-B253AD09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F889-414B-47E4-991C-7AA9B213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CA38-B02E-49EA-BC4C-78B0437B5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d6009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he Gingerbread Ma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24000" y="4978440"/>
            <a:ext cx="51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Blackadder ITC"/>
              </a:rPr>
              <a:t>By     Brina.  Carpen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58920" y="620640"/>
            <a:ext cx="6657840" cy="410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0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 rot="19338600">
            <a:off x="1476720" y="306828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S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866000">
            <a:off x="1765080" y="242028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SN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835760" y="3716280"/>
            <a:ext cx="1308240" cy="16574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443640" y="2708280"/>
            <a:ext cx="1585800" cy="1297080"/>
          </a:xfrm>
          <a:prstGeom prst="wedgeEllipseCallout">
            <a:avLst>
              <a:gd name="adj1" fmla="val 60208"/>
              <a:gd name="adj2" fmla="val 61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I can’t get across the river. Can you help m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5126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35760" y="3716280"/>
            <a:ext cx="1308240" cy="1657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564000" y="620640"/>
            <a:ext cx="2303280" cy="20163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Bradley Hand ITC"/>
              </a:rPr>
              <a:t>I will help you. Jump on my tai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1307880" cy="165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148360" y="2924280"/>
            <a:ext cx="1307880" cy="165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419640" y="333360"/>
            <a:ext cx="2158920" cy="1873440"/>
          </a:xfrm>
          <a:prstGeom prst="cloudCallout">
            <a:avLst>
              <a:gd name="adj1" fmla="val -52060"/>
              <a:gd name="adj2" fmla="val 1138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r to  heavy for my tail jump on my ba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13082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95640" y="1268280"/>
            <a:ext cx="1308240" cy="1657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92360" y="476280"/>
            <a:ext cx="1584360" cy="1871640"/>
          </a:xfrm>
          <a:prstGeom prst="wedgeRoundRectCallout">
            <a:avLst>
              <a:gd name="adj1" fmla="val -57314"/>
              <a:gd name="adj2" fmla="val 10386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ou are getting to heavy for my back jump on my n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340000" y="1484280"/>
            <a:ext cx="1308240" cy="165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340000" y="1484280"/>
            <a:ext cx="1308240" cy="1657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981000"/>
            <a:ext cx="2016000" cy="1800360"/>
          </a:xfrm>
          <a:prstGeom prst="wedgeEllipseCallout">
            <a:avLst>
              <a:gd name="adj1" fmla="val 64486"/>
              <a:gd name="adj2" fmla="val 861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um, yum a gingerbread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7:05:39Z</dcterms:created>
  <dc:creator>Ministry of Education</dc:creator>
  <dc:description/>
  <dc:language>en-US</dc:language>
  <cp:lastModifiedBy>Ministry of Education</cp:lastModifiedBy>
  <dcterms:modified xsi:type="dcterms:W3CDTF">2007-05-06T02:59:51Z</dcterms:modified>
  <cp:revision>8</cp:revision>
  <dc:subject/>
  <dc:title>Slide 1</dc:title>
</cp:coreProperties>
</file>