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4DB-A22B-4275-846E-51592323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BEA-E618-469A-8069-C48C636D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D93-3EA4-4041-873F-7739FBC9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97B-B787-4CF6-827A-DFA0CB30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2FEA-305E-47A0-85F2-C583046C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4264-DC69-4258-B16B-DFAE8B8C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23BB-D5C8-4020-B4CE-D389D096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4D5F-4A2C-4670-B6C0-A2F7AD14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08BF-6C75-4F18-8092-1E5CE9D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F7E5-07C6-420D-AB90-B2FAF44B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EDD5-AEC9-4BCB-B4BC-B3E458D6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B57-06B3-4A25-9482-532D2957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5AF3-8717-4971-B767-BF3CDF63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43AE-9D94-4E3B-8479-CE8E8824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EE84-0F80-4148-9022-ED6120EE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8949-817A-4243-97E9-7F472D50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6C89-73C6-4184-AE35-50D5343B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C38-2C5D-4904-BAFF-55EC3D03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0A6-1D97-4246-8AF0-63349F10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E7E-8402-4109-ABFC-6FCD574A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89E-C224-43CF-A733-DC6F7FAD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C32-796B-4339-BFD5-3CC626A9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F0B-342A-4ACA-847A-19161B5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F56-D1F0-47D0-919F-1C963CC2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CF64-FC44-406F-AA98-B169B9A9F7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7E08-6367-4292-A0B5-5CEA55FD5B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7752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How to develop 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a professional learning community: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passion and persistence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Created by Dr Rick Dufou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2120" y="61722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9712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plan f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nit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del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elebrate through our stories, ceremonies, and ritual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onfron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at questions are we attempting to ans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4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3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ow do we allocate resource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cording to prioritie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ime,    money,    energ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reate a Collaborative 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a collaborative culture will not be created by chance, or even by invitation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You must embed collaborative processes into the routine practices of the schoo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Organise the school into genuine teams – people working to achie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terdependently to achieve a common goa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identifying team goa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developing team protoco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Improve your teams effectiveness by focusing on the critical questions of lear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s effectiveness by bringing doughnuts to meeting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fore criticizing a teammate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alk a mile in his shoes…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at way if he gets upset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e’ll be a mile away and barefoo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are about each o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ach out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Give of yourself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ever doubt that a small group of thoughtful, committed people can change the world:   indeed it is the  only thing that ever has!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Margaret Mea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3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Stay positive in the tough ti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15328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mplaining is like a rocking chai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gives you something to do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t doesn’t get you anywhe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What you se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 students                             In par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you see in each other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ill depend on what you look for…….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tender with one ano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knowledge that to err is hu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f your eraser wears out before the pencil, you are over doing i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3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3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Be thankful for every morning…</a:t>
            </a:r>
            <a:br>
              <a:rPr sz="4000"/>
            </a:b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especially for the ones in Ju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1532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derstand that example is the most powerful teac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ive your life so that when your students think of fairness, of caring, of integrity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ey think of yo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3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ersi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the road to becoming a learning community is dotted with many tempting parking pla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ffff"/>
                </a:solidFill>
                <a:latin typeface="Times New Roman"/>
              </a:rPr>
              <a:t>Build a solid found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Lets put our minds toge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And see what life can mak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for our child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tting B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ush 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Obstacles and others can stop you temporarily;   you are the only ones who can do it permanentl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Believe that what lies behind us and what lies ahead of us are insignificant compared to…. 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what lies within u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3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3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48040" y="2962440"/>
            <a:ext cx="1447920" cy="9331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Find common grou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Find what unites you rather than separates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Don’t call on others to improve your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Accept responsibility for doing it yourselv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Embrace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learn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rather than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teach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as the fundamental purpose of your sch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Remember: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 give a man a fish 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and he will eat for a d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852640"/>
            <a:ext cx="81532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Teach a man to fish and he will sit in a boat and drink beer all da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Remember: use data to paint a picture of your current real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hungry for information on your scho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s achievements and how it is perceiv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olerate the truth even if it is bad new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your shared hopes and dreams of the school you might creat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the collective commitments you are willing to make to each other to make your shared hopes a real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700" spc="-1" strike="noStrike">
                <a:solidFill>
                  <a:srgbClr val="ffffff"/>
                </a:solidFill>
                <a:latin typeface="Times New Roman"/>
              </a:rPr>
              <a:t>Act;   Go;    Do.</a:t>
            </a:r>
            <a:endParaRPr b="0" lang="en-US" sz="8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takes action, rather than philosophy to advance your improvement pl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ranslate your good intentions into specific step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845820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Remember the Romans didn’t build a world empire by just talking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15328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Okay, they did it by killing all who opposed them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ut still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Your school improvement plan isn’t worth the paper it’s written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less it starts you doing some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nsistently communicate prioriti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member, you express what you value by what you do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ot what you say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3:46:28Z</dcterms:created>
  <dc:creator>Ruth Pepper</dc:creator>
  <dc:description/>
  <dc:language>en-US</dc:language>
  <cp:lastModifiedBy>libadmin</cp:lastModifiedBy>
  <dcterms:modified xsi:type="dcterms:W3CDTF">2008-03-11T22:54:01Z</dcterms:modified>
  <cp:revision>34</cp:revision>
  <dc:subject/>
  <dc:title>How to have a learning community with passion and persistance </dc:title>
</cp:coreProperties>
</file>