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0FA2-BA24-4CDC-89D8-9D9FF61E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50BF-150C-490D-A809-E38334C6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0A5D-ACF8-4739-B984-00992DBB0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3BB-3723-47ED-9EEB-FF24F9D7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ED42-F5C6-4105-8C73-73A92D5E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0A73B-3FF5-4160-A93C-E264A989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2FB8E-ACF9-44EC-ABAD-5C9140D7A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37E0-0A71-45F9-81D7-640542BD5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22162-FEB8-41FA-9996-2F73F1AF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BA0D7-821C-44CF-8CBF-7566E4B6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CAFA-2EDF-4B3F-922D-D3EF7402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D83-6077-4511-80F2-A7F9BCCBF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66AA-3919-4A96-87F6-25C05E51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57656-D29F-41D8-9DF7-2094C673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C2D7E-26A2-4BC7-9A92-92E6FA484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EECF-BC5D-4B94-BD83-749D5524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895A-9BCC-4E75-8291-BEB82CFA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1C07-FB7E-4E7E-B8C4-0116E918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1B79-C3FB-4134-8511-B5CB7E3E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7451-505F-4974-AB7D-CDC8CB6B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3867-FD84-460E-A83B-D134EFD11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4CCA-BB96-4D82-B38C-534C5C228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C03-BFCD-41F4-BE44-41766038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7A74-E9DE-49E1-8584-30D7420E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941E-0141-461F-A6DB-0B0826ED82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B894-FE1E-4595-8AA9-5FA1321137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camera.wav" TargetMode="External"/><Relationship Id="rId2" Type="http://schemas.microsoft.com/office/2007/relationships/media" Target="file:///tmp/home/.config/libreoffice/4/user/gallery/camera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837720"/>
            <a:ext cx="777528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600"/>
            </a:br>
            <a:br>
              <a:rPr sz="5600"/>
            </a:b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How to develop 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a professional learning community:</a:t>
            </a:r>
            <a:br>
              <a:rPr sz="5600"/>
            </a:br>
            <a:r>
              <a:rPr b="0" lang="en-NZ" sz="5600" spc="-1" strike="noStrike">
                <a:solidFill>
                  <a:srgbClr val="ffffff"/>
                </a:solidFill>
                <a:latin typeface="Times New Roman"/>
              </a:rPr>
              <a:t>passion and persistence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Created by Dr Rick Dufour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762120" y="6172200"/>
            <a:ext cx="75960" cy="763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2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797120"/>
            <a:ext cx="81532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plan f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nitor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model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elebrate through our stories, ceremonies, and ritual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do we confront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Arial"/>
              </a:rPr>
              <a:t>What questions are we attempting to answer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4000"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3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3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3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3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3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3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Ask yoursel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ow do we allocate resources-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cording to prioriti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ime,    money,    energ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3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8000"/>
                            </p:stCondLst>
                            <p:childTnLst>
                              <p:par>
                                <p:cTn id="14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30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reate a Collaborative Cultur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22860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a collaborative culture will not be created by chance, or even by invitation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You must embed collaborative processes into the routine practices of the schoo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Organise the school into genuine teams – people working to achiev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terdependently to achieve a common goal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identifying team goa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’s effectiveness by developing team protocol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3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3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Improve your teams effectiveness by focusing on the critical questions of lear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56536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mprove your teams effectiveness by bringing doughnuts to meeting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fore criticizing a teammate,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alk a mile in his shoes…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at way if he gets upset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he’ll be a mile away and barefoo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3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3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3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3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3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Care about each othe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ach out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Give of yourself to each ot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ever doubt that a small group of thoughtful, committed people can change the world:   indeed it is the  only thing that ever has!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Margaret Mea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3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5000"/>
                            </p:stCondLst>
                            <p:childTnLst>
                              <p:par>
                                <p:cTn id="20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3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3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3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8153280" cy="17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Stay positive in the tough tim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2895120"/>
            <a:ext cx="8153280" cy="28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mplaining is like a rocking chai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gives you something to do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t doesn’t get you anywher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5000">
    <p:fade thruBlk="true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3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3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3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What you se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n students                             In paren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hat you see in each other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Will depend on what you look for…….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tender with one anoth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Acknowledge that to err is hu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ut if your eraser wears out before the pencil, you are over doing i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3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3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3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3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30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30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Be thankful for every morning…</a:t>
            </a:r>
            <a:br>
              <a:rPr sz="4000"/>
            </a:b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especially for the ones in June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2707920"/>
            <a:ext cx="8153280" cy="31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derstand that example is the most powerful teache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Live your life so that when your students think of fairness, of caring, of integrity…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hey think of you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6000">
    <p:fade thruBlk="true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3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3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3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ersis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5909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cognise that the road to becoming a learning community is dotted with many tempting parking plac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30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ffffff"/>
                </a:solidFill>
                <a:latin typeface="Times New Roman"/>
              </a:rPr>
              <a:t>Build a solid foundation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Lets put our minds togeth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And see what life can mak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for our childr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en-NZ" sz="3200" spc="-1" strike="noStrike">
                <a:solidFill>
                  <a:srgbClr val="ffffff"/>
                </a:solidFill>
                <a:latin typeface="Arial"/>
              </a:rPr>
              <a:t>Sitting Bu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Push 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Obstacles and others can stop you temporarily;   you are the only ones who can do it permanently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Believe that what lies behind us and what lies ahead of us are insignificant compared to….       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                                  </a:t>
            </a:r>
            <a:r>
              <a:rPr b="0" lang="en-NZ" sz="2700" spc="-1" strike="noStrike">
                <a:solidFill>
                  <a:srgbClr val="ffffff"/>
                </a:solidFill>
                <a:latin typeface="Arial"/>
              </a:rPr>
              <a:t>what lies within us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3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0"/>
                            </p:stCondLst>
                            <p:childTnLst>
                              <p:par>
                                <p:cTn id="28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3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3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3848040" y="2962440"/>
            <a:ext cx="1447920" cy="93312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Find common groun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Find what unites you rather than separates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3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Don’t call on others to improve your school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Accept responsibility for doing it yourselve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Embrace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learn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rather than </a:t>
            </a:r>
            <a:r>
              <a:rPr b="0" i="1" lang="en-NZ" sz="4400" spc="-1" strike="noStrike">
                <a:solidFill>
                  <a:srgbClr val="ffffff"/>
                </a:solidFill>
                <a:latin typeface="Arial"/>
              </a:rPr>
              <a:t>teaching</a:t>
            </a: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 as the fundamental purpose of your scho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3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Remember: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 give a man a fish </a:t>
            </a:r>
            <a:br>
              <a:rPr sz="4800"/>
            </a:br>
            <a:r>
              <a:rPr b="0" lang="en-NZ" sz="4800" spc="-1" strike="noStrike">
                <a:solidFill>
                  <a:srgbClr val="ffffff"/>
                </a:solidFill>
                <a:latin typeface="Times New Roman"/>
              </a:rPr>
              <a:t>and he will eat for a d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2852640"/>
            <a:ext cx="81532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Teach a man to fish and he will sit in a boat and drink beer all day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3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Remember: use data to paint a picture of your current reality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Be hungry for information on your schoo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s achievements and how it is perceiv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olerate the truth even if it is bad new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your shared hopes and dreams of the school you might creat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dentify the collective commitments you are willing to make to each other to make your shared hopes a realit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20000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700" spc="-1" strike="noStrike">
                <a:solidFill>
                  <a:srgbClr val="ffffff"/>
                </a:solidFill>
                <a:latin typeface="Times New Roman"/>
              </a:rPr>
              <a:t>Act;   Go;    Do.</a:t>
            </a:r>
            <a:endParaRPr b="0" lang="en-US" sz="8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It takes action, rather than philosophy to advance your improvement pla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Translate your good intentions into specific step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3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5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3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-304920"/>
            <a:ext cx="8458200" cy="20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Times New Roman"/>
              </a:rPr>
              <a:t>Remember the Romans didn’t build a world empire by just talking……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666520"/>
            <a:ext cx="8153280" cy="25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Okay, they did it by killing all who opposed them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ff"/>
                </a:solidFill>
                <a:latin typeface="Arial"/>
              </a:rPr>
              <a:t>But still…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3000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3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3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Times New Roman"/>
              </a:rPr>
              <a:t>Your school improvement plan isn’t worth the paper it’s written 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Unless it starts you doing somethi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Consistently communicate priorities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Remember, you express what you value by what you do,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100" spc="-1" strike="noStrike">
                <a:solidFill>
                  <a:srgbClr val="ffffff"/>
                </a:solidFill>
                <a:latin typeface="Arial"/>
              </a:rPr>
              <a:t>Not what you say……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17000"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3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3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3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03:46:28Z</dcterms:created>
  <dc:creator>Ruth Pepper</dc:creator>
  <dc:description/>
  <dc:language>en-US</dc:language>
  <cp:lastModifiedBy>libadmin</cp:lastModifiedBy>
  <dcterms:modified xsi:type="dcterms:W3CDTF">2008-03-11T22:54:01Z</dcterms:modified>
  <cp:revision>34</cp:revision>
  <dc:subject/>
  <dc:title>How to have a learning community with passion and persistance </dc:title>
</cp:coreProperties>
</file>