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4F0C-58CC-4B78-B378-134B0250E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90BD-6BBF-4080-842E-5A47D5E4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452B-F4D2-432E-B853-8E9D861FA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E0A1-2B5D-4D83-AEF9-B0642E68E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367DC-6B8B-4082-8D7D-F54A1A531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BD96-F908-4253-8650-6178C886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8578-0CAE-4956-8AC1-521FEA8F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5425-6E2A-494F-B596-128B63A3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89D40-EE8A-4828-AC60-1D5606EEC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766E-BBDB-43BE-AA2B-05227C19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6FB3-0A2B-4311-9867-2CF587FB6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CF6F-AB80-4C74-874A-F19F2596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726B-2FC6-4A24-9FE5-B3B808B72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1C49D-2352-44A4-9B27-9B1A6A89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8EF9-B680-4843-BDD6-C63BD377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2BC7-9E94-4242-B571-48C351707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C202-4439-4742-9594-9F39903D3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D5F7-D479-41D9-8BF1-7C5E4894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C3BD-1B16-4383-9D7B-A5F14AEBA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4FAB-5676-4AED-BD09-B9F13FD01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3B86-9827-4407-9DCC-759A1E0B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3ED3-A3DE-4D32-8D15-196996D5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9B3C-D8D7-4E1C-8356-D445A4B0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1633-0DD3-4624-ACAD-021F2561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44B2-F490-417F-8518-E5D235235B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6A13-146F-4F95-9A8F-A41A873B4A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amera.wav" TargetMode="External"/><Relationship Id="rId2" Type="http://schemas.microsoft.com/office/2007/relationships/media" Target="file:///tmp/home/.config/libreoffice/4/user/gallery/camera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837720"/>
            <a:ext cx="777528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600"/>
            </a:br>
            <a:br>
              <a:rPr sz="5600"/>
            </a:br>
            <a:br>
              <a:rPr sz="5600"/>
            </a:br>
            <a:r>
              <a:rPr b="0" lang="en-NZ" sz="5600" spc="-1" strike="noStrike">
                <a:solidFill>
                  <a:srgbClr val="ffffff"/>
                </a:solidFill>
                <a:latin typeface="Times New Roman"/>
              </a:rPr>
              <a:t>How to develop </a:t>
            </a:r>
            <a:br>
              <a:rPr sz="5600"/>
            </a:br>
            <a:r>
              <a:rPr b="0" lang="en-NZ" sz="5600" spc="-1" strike="noStrike">
                <a:solidFill>
                  <a:srgbClr val="ffffff"/>
                </a:solidFill>
                <a:latin typeface="Times New Roman"/>
              </a:rPr>
              <a:t>a professional learning community:</a:t>
            </a:r>
            <a:br>
              <a:rPr sz="5600"/>
            </a:br>
            <a:r>
              <a:rPr b="0" lang="en-NZ" sz="5600" spc="-1" strike="noStrike">
                <a:solidFill>
                  <a:srgbClr val="ffffff"/>
                </a:solidFill>
                <a:latin typeface="Times New Roman"/>
              </a:rPr>
              <a:t>passion and persistence </a:t>
            </a:r>
            <a:endParaRPr b="0" lang="en-US" sz="5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ffffff"/>
                </a:solidFill>
                <a:latin typeface="Arial"/>
              </a:rPr>
              <a:t>Created by Dr Rick Dufou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62120" y="6172200"/>
            <a:ext cx="75960" cy="7632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2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Ask yourself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797120"/>
            <a:ext cx="81532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hat do we plan for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hat do we monitor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hat do we model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hat do we celebrate through our stories, ceremonies, and ritual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hat do we confront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What questions are we attempting to answ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4000">
    <p:fade thruBlk="true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3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3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3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3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3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3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Ask yourself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How do we allocate resources-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According to prioritie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Time,    money,    energ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fade thruBlk="true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3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3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80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3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Create a Collaborative Cul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Recognise that a collaborative culture will not be created by chance, or even by invitation……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You must embed collaborative processes into the routine practices of the school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6000">
    <p:fade thruBlk="true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3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3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Times New Roman"/>
              </a:rPr>
              <a:t>Organise the school into genuine teams – people working to achiev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Interdependently to achieve a common goal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Improve your team’s effectiveness by identifying team goal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Improve your team’s effectiveness by developing team protocol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fade thruBlk="true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3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3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3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Improve your teams effectiveness by focusing on the critical questions of learn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Improve your teams effectiveness by bringing doughnuts to meeting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Before criticizing a teammate,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alk a mile in his shoes……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that way if he gets upset…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he’ll be a mile away and barefoo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fade thruBlk="true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3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3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3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3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3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Care about each oth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Reach out to each othe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Give of yourself to each othe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Never doubt that a small group of thoughtful, committed people can change the world:   indeed it is the  only thing that ever has!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Margaret Mea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fade thruBlk="true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3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3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3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3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815328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Stay positive in the tough tim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153280" cy="28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Complaining is like a rocking chai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It gives you something to do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but it doesn’t get you anywher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5000">
    <p:fade thruBlk="true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3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3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3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What you see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In students                             In paren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hat you see in each other…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ill depend on what you look for…….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Be tender with one anoth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Acknowledge that to err is hu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But if your eraser wears out before the pencil, you are over doing i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fade thruBlk="true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3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3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3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3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3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3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Times New Roman"/>
              </a:rPr>
              <a:t>Be thankful for every morning…</a:t>
            </a:r>
            <a:br>
              <a:rPr sz="4000"/>
            </a:br>
            <a:r>
              <a:rPr b="0" lang="en-NZ" sz="4000" spc="-1" strike="noStrike">
                <a:solidFill>
                  <a:srgbClr val="ffffff"/>
                </a:solidFill>
                <a:latin typeface="Times New Roman"/>
              </a:rPr>
              <a:t>especially for the ones in Jun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2707920"/>
            <a:ext cx="815328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Understand that example is the most powerful teache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Live your life so that when your students think of fairness, of caring, of integrity…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They think of you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6000">
    <p:fade thruBlk="true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3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3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3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Persis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Recognise that the road to becoming a learning community is dotted with many tempting parking plac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fade thruBlk="true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3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ffffff"/>
                </a:solidFill>
                <a:latin typeface="Times New Roman"/>
              </a:rPr>
              <a:t>Build a solid founda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Lets put our minds togeth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And see what life can mak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for our childr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Sitting Bu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Push 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ffffff"/>
                </a:solidFill>
                <a:latin typeface="Arial"/>
              </a:rPr>
              <a:t>Obstacles and others can stop you temporarily;   you are the only ones who can do it permanently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ffffff"/>
                </a:solidFill>
                <a:latin typeface="Arial"/>
              </a:rPr>
              <a:t>Believe that what lies behind us and what lies ahead of us are insignificant compared to….       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n-NZ" sz="2700" spc="-1" strike="noStrike">
                <a:solidFill>
                  <a:srgbClr val="ffffff"/>
                </a:solidFill>
                <a:latin typeface="Arial"/>
              </a:rPr>
              <a:t>what lies within u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fade thruBlk="true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3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3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3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848040" y="2962440"/>
            <a:ext cx="1447920" cy="93312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ffffff"/>
                </a:solidFill>
                <a:latin typeface="Times New Roman"/>
              </a:rPr>
              <a:t>Find common groun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Find what unites you rather than separates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fade thruBlk="true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3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Don’t call on others to improve your schoo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Accept responsibility for doing it yourselv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Embrace </a:t>
            </a:r>
            <a:r>
              <a:rPr b="0" i="1" lang="en-NZ" sz="4400" spc="-1" strike="noStrike">
                <a:solidFill>
                  <a:srgbClr val="ffffff"/>
                </a:solidFill>
                <a:latin typeface="Arial"/>
              </a:rPr>
              <a:t>learning</a:t>
            </a: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 rather than </a:t>
            </a:r>
            <a:r>
              <a:rPr b="0" i="1" lang="en-NZ" sz="4400" spc="-1" strike="noStrike">
                <a:solidFill>
                  <a:srgbClr val="ffffff"/>
                </a:solidFill>
                <a:latin typeface="Arial"/>
              </a:rPr>
              <a:t>teaching</a:t>
            </a: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 as the fundamental purpose of your scho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fade thruBlk="true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3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3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ffffff"/>
                </a:solidFill>
                <a:latin typeface="Times New Roman"/>
              </a:rPr>
              <a:t>Remember:</a:t>
            </a:r>
            <a:br>
              <a:rPr sz="4800"/>
            </a:br>
            <a:r>
              <a:rPr b="0" lang="en-NZ" sz="4800" spc="-1" strike="noStrike">
                <a:solidFill>
                  <a:srgbClr val="ffffff"/>
                </a:solidFill>
                <a:latin typeface="Times New Roman"/>
              </a:rPr>
              <a:t> give a man a fish </a:t>
            </a:r>
            <a:br>
              <a:rPr sz="4800"/>
            </a:br>
            <a:r>
              <a:rPr b="0" lang="en-NZ" sz="4800" spc="-1" strike="noStrike">
                <a:solidFill>
                  <a:srgbClr val="ffffff"/>
                </a:solidFill>
                <a:latin typeface="Times New Roman"/>
              </a:rPr>
              <a:t>and he will eat for a da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2852640"/>
            <a:ext cx="815328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Teach a man to fish and he will sit in a boat and drink beer all day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3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Times New Roman"/>
              </a:rPr>
              <a:t>Remember: use data to paint a picture of your current realit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Be hungry for information on your schoo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Its achievements and how it is perceiv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Tolerate the truth even if it is bad new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Identify your shared hopes and dreams of the school you might creat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Identify the collective commitments you are willing to make to each other to make your shared hopes a realit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fade thruBlk="true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9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700" spc="-1" strike="noStrike">
                <a:solidFill>
                  <a:srgbClr val="ffffff"/>
                </a:solidFill>
                <a:latin typeface="Times New Roman"/>
              </a:rPr>
              <a:t>Act;   Go;    Do.</a:t>
            </a:r>
            <a:endParaRPr b="0" lang="en-US" sz="8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It takes action, rather than philosophy to advance your improvement pla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Translate your good intentions into specific step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250" autoRev="1" fill="hold"/>
                                        <p:tgtEl>
                                          <p:spTgt spid="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3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3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-304920"/>
            <a:ext cx="8458200" cy="20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Remember the Romans didn’t build a world empire by just talking……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2666520"/>
            <a:ext cx="8153280" cy="25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Okay, they did it by killing all who opposed them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But still…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fade thruBlk="true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3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3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Times New Roman"/>
              </a:rPr>
              <a:t>Your school improvement plan isn’t worth the paper it’s written 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Unless it starts you doing someth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Consistently communicate prioriti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Remember, you express what you value by what you do,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Not what you say……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7000"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3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3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3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3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03:46:28Z</dcterms:created>
  <dc:creator>Ruth Pepper</dc:creator>
  <dc:description/>
  <dc:language>en-US</dc:language>
  <cp:lastModifiedBy>libadmin</cp:lastModifiedBy>
  <dcterms:modified xsi:type="dcterms:W3CDTF">2008-03-11T22:54:01Z</dcterms:modified>
  <cp:revision>34</cp:revision>
  <dc:subject/>
  <dc:title>How to have a learning community with passion and persistance </dc:title>
</cp:coreProperties>
</file>