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7125-458F-411C-8B51-9B867068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BA9F-0B1F-489A-B47E-6E60BFA8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897-5DC3-4F99-AF91-22F35574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64D-F3DE-46A9-9F43-133F76D3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3800-F4C6-46AC-A385-C821A674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2BC6-740D-4D90-816A-4AF1C42B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8380-F2FF-41BB-B1A5-817F7C8F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DBAE-EE96-4D1B-9F84-A9F4F7EE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F6A6-5374-4DE7-9CFB-71AB8B75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998C-91B7-4024-B276-E7A1045E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E8E2-F4BD-4DA6-99E7-3F61C08D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3A6-7E59-426A-8EBF-9E144EB7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328F-190C-45D1-B00C-BC32AD66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BA59-5A63-4278-9A5C-CEF00B5C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2BE6-C2F6-4D87-8406-2FB09E3C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E7C4-20FC-4154-9DE8-85A79B52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99FF-235A-46EF-9AFF-56AEB732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48F3-B526-4D2A-BBB8-348FE545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91DF-92A7-4C03-8B37-7EB5FBD5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9266-6B10-4740-82C0-39A7582F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FDC-AAA9-4245-BB0E-5B655EF6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B703-D710-4467-886B-5677827A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896D-195B-4F7D-800C-95845D1D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F68-2F65-4C2A-92D5-453A065B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06EA-6B26-4BA2-9DB3-EA93D58E99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047E-DDBD-4BB3-829A-42135E6BA3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837720"/>
            <a:ext cx="77752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600"/>
            </a:br>
            <a:br>
              <a:rPr sz="5600"/>
            </a:br>
            <a:br>
              <a:rPr sz="5600"/>
            </a:br>
            <a:r>
              <a:rPr b="0" lang="en-NZ" sz="5600" spc="-1" strike="noStrike">
                <a:solidFill>
                  <a:srgbClr val="ffffff"/>
                </a:solidFill>
                <a:latin typeface="Times New Roman"/>
              </a:rPr>
              <a:t>How to develop </a:t>
            </a:r>
            <a:br>
              <a:rPr sz="5600"/>
            </a:br>
            <a:r>
              <a:rPr b="0" lang="en-NZ" sz="5600" spc="-1" strike="noStrike">
                <a:solidFill>
                  <a:srgbClr val="ffffff"/>
                </a:solidFill>
                <a:latin typeface="Times New Roman"/>
              </a:rPr>
              <a:t>a professional learning community:</a:t>
            </a:r>
            <a:br>
              <a:rPr sz="5600"/>
            </a:br>
            <a:r>
              <a:rPr b="0" lang="en-NZ" sz="5600" spc="-1" strike="noStrike">
                <a:solidFill>
                  <a:srgbClr val="ffffff"/>
                </a:solidFill>
                <a:latin typeface="Times New Roman"/>
              </a:rPr>
              <a:t>passion and persistence 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Created by Dr Rick Dufou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62120" y="6172200"/>
            <a:ext cx="75960" cy="763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Ask yourself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797120"/>
            <a:ext cx="8153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plan fo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monito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model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celebrate through our stories, ceremonies, and ritual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confront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hat questions are we attempting to answ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4000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3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3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3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3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3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Ask yoursel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How do we allocate resources-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According to prioritie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ime,    money,    energ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3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3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Create a Collaborative Cul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cognise that a collaborative culture will not be created by chance, or even by invitation…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You must embed collaborative processes into the routine practices of the school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3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3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Organise the school into genuine teams – people working to achiev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nterdependently to achieve a common goal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mprove your team’s effectiveness by identifying team goal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mprove your team’s effectiveness by developing team protocol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Improve your teams effectiveness by focusing on the critical questions of lear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mprove your teams effectiveness by bringing doughnuts to meeting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efore criticizing a teammate,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alk a mile in his shoes…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hat way if he gets upset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he’ll be a mile away and barefoo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3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3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3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3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3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Care about each oth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ach out to each oth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Give of yourself to each oth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Never doubt that a small group of thoughtful, committed people can change the world:   indeed it is the  only thing that ever has!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Margaret Mea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3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3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3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3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15328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Stay positive in the tough tim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15328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Complaining is like a rocking chai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t gives you something to do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ut it doesn’t get you anywhe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3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3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3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What you se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n students                             In paren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you see in each other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ill depend on what you look for…….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e tender with one anoth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Acknowledge that to err is hu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ut if your eraser wears out before the pencil, you are over doing i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3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3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3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3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3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Be thankful for every morning…</a:t>
            </a:r>
            <a:br>
              <a:rPr sz="4000"/>
            </a:b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especially for the ones in Ju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707920"/>
            <a:ext cx="81532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derstand that example is the most powerful teach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Live your life so that when your students think of fairness, of caring, of integrity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hey think of yo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3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3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3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Persi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cognise that the road to becoming a learning community is dotted with many tempting parking plac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3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ffffff"/>
                </a:solidFill>
                <a:latin typeface="Times New Roman"/>
              </a:rPr>
              <a:t>Build a solid found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Lets put our minds toget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And see what life can mak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for our childr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itting Bu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Push 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Obstacles and others can stop you temporarily;   you are the only ones who can do it permanentl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Believe that what lies behind us and what lies ahead of us are insignificant compared to….      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what lies within u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3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3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3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48040" y="2962440"/>
            <a:ext cx="1447920" cy="9331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Find common groun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Find what unites you rather than separates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3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Don’t call on others to improve your scho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Accept responsibility for doing it yourselv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Embrace </a:t>
            </a:r>
            <a:r>
              <a:rPr b="0" i="1" lang="en-NZ" sz="4400" spc="-1" strike="noStrike">
                <a:solidFill>
                  <a:srgbClr val="ffffff"/>
                </a:solidFill>
                <a:latin typeface="Arial"/>
              </a:rPr>
              <a:t>learning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rather than </a:t>
            </a:r>
            <a:r>
              <a:rPr b="0" i="1" lang="en-NZ" sz="4400" spc="-1" strike="noStrike">
                <a:solidFill>
                  <a:srgbClr val="ffffff"/>
                </a:solidFill>
                <a:latin typeface="Arial"/>
              </a:rPr>
              <a:t>teaching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as the fundamental purpose of your scho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3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3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Remember:</a:t>
            </a:r>
            <a:br>
              <a:rPr sz="4800"/>
            </a:b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 give a man a fish </a:t>
            </a:r>
            <a:br>
              <a:rPr sz="4800"/>
            </a:b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and he will eat for a da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852640"/>
            <a:ext cx="81532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Teach a man to fish and he will sit in a boat and drink beer all da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3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Remember: use data to paint a picture of your current realit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e hungry for information on your schoo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ts achievements and how it is perceiv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olerate the truth even if it is bad new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dentify your shared hopes and dreams of the school you might creat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dentify the collective commitments you are willing to make to each other to make your shared hopes a realit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9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700" spc="-1" strike="noStrike">
                <a:solidFill>
                  <a:srgbClr val="ffffff"/>
                </a:solidFill>
                <a:latin typeface="Times New Roman"/>
              </a:rPr>
              <a:t>Act;   Go;    Do.</a:t>
            </a:r>
            <a:endParaRPr b="0" lang="en-US" sz="8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t takes action, rather than philosophy to advance your improvement pla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ranslate your good intentions into specific step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3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3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-304920"/>
            <a:ext cx="8458200" cy="20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Remember the Romans didn’t build a world empire by just talking…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666520"/>
            <a:ext cx="815328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Okay, they did it by killing all who opposed them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But still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3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3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Your school improvement plan isn’t worth the paper it’s written 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less it starts you doing someth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Consistently communicate prioriti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member, you express what you value by what you do,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Not what you say…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3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3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3:46:28Z</dcterms:created>
  <dc:creator>Ruth Pepper</dc:creator>
  <dc:description/>
  <dc:language>en-US</dc:language>
  <cp:lastModifiedBy>libadmin</cp:lastModifiedBy>
  <dcterms:modified xsi:type="dcterms:W3CDTF">2008-03-11T22:54:01Z</dcterms:modified>
  <cp:revision>34</cp:revision>
  <dc:subject/>
  <dc:title>How to have a learning community with passion and persistance </dc:title>
</cp:coreProperties>
</file>