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drumroll.wav" ContentType="audio/x-wav"/>
  <Override PartName="/ppt/media/image12.jpeg" ContentType="image/jpeg"/>
  <Override PartName="/ppt/media/applause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3CB-E70C-4C86-861C-CBC6A012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518-2B04-464B-AD94-18B7448F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5C4-32E8-4508-B263-12700B19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E52-E297-4139-9C57-467921D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3070-5687-40B4-B6FD-392B7C9A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3D72-AA0B-46CC-B50E-B092231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011E-A6D2-4C25-B540-05591B63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E98E-66B1-4C82-9741-9D78F2E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457B-53E7-4806-AA18-51F8FD4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F5AF-D220-4D19-A2B5-980BACE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1505-1EDC-43AC-8AB3-0531709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873-F5EB-4A80-9A11-4BDF40F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048E-8A5A-4F2A-AC36-558E217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0480-9D6E-4AE9-AF63-5FD8399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6E5-C379-4346-911D-4BBE6E07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793B-BA6D-42AB-B3FF-D4023DCF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923B-1D79-41B5-9544-4D7F3D3B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7EEC-9215-40E0-8CFD-294DBDEE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8C25-E1CA-4785-9F25-650DC536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0F73-0F89-4DAE-8207-5ED14F7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A2AB-39AC-4018-9573-8BFF41A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65A6-20BD-4EE6-9406-12B28A17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C26-748A-4E5E-B5BA-2D610CE1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5243-837C-4E32-B9EC-EA24C4D7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7C79-9137-4F7D-ACEB-B84506C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0B8F-4B8C-4DC4-82D7-B2EA8CB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7FC4-0F57-4573-855A-93CA896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B577-8013-4540-86BD-018FDBA5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EEAC-7E46-450A-9D35-70B1A823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115D-B1CD-4F7D-98DD-DDCC8E4A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4697-9FD0-4AD8-8C57-D5A62562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5AB9-52B4-482B-9872-F8E2FA2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1310-8951-408B-9E2C-4CB91CBC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BAB-543D-4B4C-8A0A-50A237F1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C45AD-4F8E-4B8E-BC2E-F29D9971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216C-9351-4FEB-A1E5-6A20935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1080-C7B2-4073-8D87-1FF89BB3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999B5-0C85-42B1-B0A2-A2288AD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952D-2712-4916-B86D-64B2BC8F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2A12-3528-47F0-A583-11CF6C3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4683-21A9-405F-AD3D-6917D27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57A5-A9BD-45D1-82CC-0C23449C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8245-2B72-42D0-900A-876DF3EA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126-0237-418D-A1CC-7F3CA104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354-2694-453E-A60E-238098D8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BCA-77E3-4ED9-A5DC-819E96A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030-A56A-4CBC-A2E2-108C886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644-12F4-4C90-B92B-BA7BD52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398-DE68-4DCF-A3B9-CC49D64E60C5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1BB-83A6-47F7-900A-E5F17054EE95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4F2A-1820-4AB3-8029-F7F628AA1FFD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F3B7-ABBF-4FC2-AB84-5CE00DBBD6FE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La petite corpo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 thruBlk="true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ffff"/>
                </a:solidFill>
                <a:latin typeface="Constantia"/>
              </a:rPr>
              <a:t>Taking over half of Europe isn’t as easy as it sound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76120"/>
            <a:ext cx="246240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4617b"/>
                </a:solidFill>
                <a:uFillTx/>
                <a:latin typeface="Calibri"/>
              </a:rPr>
              <a:t>Emperor Napoleon I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Napoleon I was one of the greatest leaders in European history. Napoleon conquered over half of Europe and even crowned himself empe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tbn0.google.com/images?q=tbn:0RpMfJ9GQ2RARM:http://faculty.evansville.edu/ck6/bstud/napoleon.jpg"/>
          <p:cNvPicPr/>
          <p:nvPr/>
        </p:nvPicPr>
        <p:blipFill>
          <a:blip r:embed="rId1"/>
          <a:srcRect l="0" t="19616" r="0" b="19616"/>
          <a:stretch/>
        </p:blipFill>
        <p:spPr>
          <a:xfrm rot="420000">
            <a:off x="3479400" y="1292040"/>
            <a:ext cx="4618080" cy="38383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Taking over Egyp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decided that the British were too powerful to launch a full scale attack on, so he decided to cut off their trading route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took artists aboard his army to study mummies and relic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3574440" y="5214960"/>
            <a:ext cx="680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let.leidenuniv.nl/saqqara/images/egyptology/Napoleon%20in%20Egypt.jpg"/>
          <p:cNvPicPr/>
          <p:nvPr/>
        </p:nvPicPr>
        <p:blipFill>
          <a:blip r:embed="rId1"/>
          <a:stretch/>
        </p:blipFill>
        <p:spPr>
          <a:xfrm>
            <a:off x="5786280" y="1143000"/>
            <a:ext cx="2257560" cy="195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cache.eb.com/eb/image?id=20252&amp;rendTypeId=4"/>
          <p:cNvPicPr/>
          <p:nvPr/>
        </p:nvPicPr>
        <p:blipFill>
          <a:blip r:embed="rId2"/>
          <a:stretch/>
        </p:blipFill>
        <p:spPr>
          <a:xfrm>
            <a:off x="3429000" y="4143240"/>
            <a:ext cx="2714760" cy="2000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4617b"/>
                </a:solidFill>
                <a:latin typeface="Calibri"/>
              </a:rPr>
              <a:t>The Ni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’s plan was going well so far so it was a big blow when the British fleet were waiting for Napole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http://www.napoleonguide.com/images/malta.jpg"/>
          <p:cNvPicPr/>
          <p:nvPr/>
        </p:nvPicPr>
        <p:blipFill>
          <a:blip r:embed="rId2"/>
          <a:stretch/>
        </p:blipFill>
        <p:spPr>
          <a:xfrm rot="445800">
            <a:off x="3444480" y="1290240"/>
            <a:ext cx="47419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4617b"/>
                </a:solidFill>
                <a:latin typeface="Calibri"/>
              </a:rPr>
              <a:t>Retre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After this failure Napoleon fled back to Fr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http://www.mlahanas.de/Greeks/Mythology/Images/SphinxBonaparte.jpg"/>
          <p:cNvPicPr/>
          <p:nvPr/>
        </p:nvPicPr>
        <p:blipFill>
          <a:blip r:embed="rId1"/>
          <a:stretch/>
        </p:blipFill>
        <p:spPr>
          <a:xfrm>
            <a:off x="4786200" y="571680"/>
            <a:ext cx="364356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z.about.com/d/arthistory/1/7/t/M/naponil_05.JPG"/>
          <p:cNvPicPr/>
          <p:nvPr/>
        </p:nvPicPr>
        <p:blipFill>
          <a:blip r:embed="rId2"/>
          <a:stretch/>
        </p:blipFill>
        <p:spPr>
          <a:xfrm>
            <a:off x="571680" y="2928960"/>
            <a:ext cx="2214360" cy="31608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786200" y="32860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When he arrived he was called a hero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http://www.solarnavigator.net/history/explorers_history/Napoleon_Bonaparte_young_officer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57560" cy="242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3286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4617b"/>
                </a:solidFill>
                <a:latin typeface="Calibri"/>
              </a:rPr>
              <a:t>A hero even toda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2209680" cy="2179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 is still remembered today as a hero. There is a statue of him in remembran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His tomb is fit for a k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ddg.com/LIS/InfoDesignF96/Emin/napoleon/images/personal/napoleon8.jpg"/>
          <p:cNvPicPr/>
          <p:nvPr/>
        </p:nvPicPr>
        <p:blipFill>
          <a:blip r:embed="rId1"/>
          <a:stretch/>
        </p:blipFill>
        <p:spPr>
          <a:xfrm rot="21066600">
            <a:off x="4285800" y="135684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6/Tumba_de_Napoleon_Bonaparte.jpg/800px-Tumba_de_Napoleon_Bonaparte.jpg"/>
          <p:cNvPicPr/>
          <p:nvPr/>
        </p:nvPicPr>
        <p:blipFill>
          <a:blip r:embed="rId2"/>
          <a:stretch/>
        </p:blipFill>
        <p:spPr>
          <a:xfrm>
            <a:off x="214200" y="457200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6960" y="1311120"/>
            <a:ext cx="8101080" cy="1432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0280" y="3072240"/>
            <a:ext cx="7827840" cy="11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nstantia"/>
              </a:rPr>
              <a:t>any questions?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u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22:55Z</dcterms:created>
  <dc:creator>room8</dc:creator>
  <dc:description/>
  <dc:language>en-US</dc:language>
  <cp:lastModifiedBy>Ministry of Education</cp:lastModifiedBy>
  <dcterms:modified xsi:type="dcterms:W3CDTF">2008-05-28T03:24:27Z</dcterms:modified>
  <cp:revision>9</cp:revision>
  <dc:subject/>
  <dc:title>Napoleon Bonaparte</dc:title>
</cp:coreProperties>
</file>