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drumroll.wav" ContentType="audio/x-wav"/>
  <Override PartName="/ppt/media/image12.jpeg" ContentType="image/jpeg"/>
  <Override PartName="/ppt/media/applause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35DF-C636-4126-ADD0-533876B2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2AE3-EA80-4141-BFAC-778A69A65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E20-D086-480E-A5E6-1EC7FB9A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07B-4A98-4479-837D-C8B7B4F4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DA52A-1FB8-49AA-9D93-1D69AEE04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0CEE-0EC1-42A8-B13B-79D10513B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B7DF-B2D2-4993-AF45-2867D22A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E9994-D1B9-42E2-A33B-01AA37DD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BB28-FE4F-47D9-9F31-9D4C0A51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78F0-BC8B-4BE9-B82B-5635744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AAF6-47F4-44E8-A5CC-767CC1BD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A3C6-732E-46D1-8F83-18D47D4F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BA5A-04F1-40C6-A73D-D74EFE2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37949-C229-4280-8C39-C5F0459D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DA66D-F64F-4C05-80DE-41C735B3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81AE3-336B-4994-8725-AF5F0885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DA4C-941A-446A-84D6-FD6AEE5ED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9B5AC-D0A6-470C-AFE7-5FD79FE2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FA9A5-9461-4B9B-ADA3-68B5838B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048CE-B340-4F53-9E9F-B45707F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2A9F1-FA1F-4E6E-9CC6-3795EC813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2BC0E-63F6-49FE-A6AC-EABD51BE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F1F-B742-49C5-AD8F-811127F6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7AC6B-BD48-40B0-AED0-8D2E375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194AD-C76C-4639-9E86-C99BD782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85C18-2015-4A33-BEB3-7614EDE0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40A03-65B4-4AC6-B6BC-6D9A4055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C6021-2FC4-40D7-B997-898E5852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8915D-C6DA-4A5C-87E4-7AAEDD816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E3B632-D3AB-44A6-B5F9-C85464FE1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30300-19B3-4830-848F-F421905A5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0B539-D690-4E68-8408-F36533870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85C40-B5B3-411A-B31E-C724933BD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7C8-7116-4210-8DB2-A7C0BBCB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B1CD-F01D-43DC-8593-74D2F9FE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40E7A-0B9D-4B3C-BEEB-4A2E7AA2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9AF88-6F8B-4644-BB1D-A34B75636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8D2BB-2C93-44E8-AD75-4B4D37DB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0D7BE-4623-48AA-A99B-93DF99C1E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5B680-9674-4EB9-B960-64276779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FDB2C-7C07-4020-95F4-C068EAA3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55B81D-384F-4C76-92AD-7148DAC0B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AAC24-FE5C-4BDC-B3B0-6644856F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D8A-6F66-4698-96BA-EF6693845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4230-400C-4D87-94FE-ED97B71C0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EDE7-340A-47F2-A40F-F30FD4723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7B3-297C-4635-B93E-8602F571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EC3B-DB96-4DF0-9461-60BE6CBC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6D94-1912-4749-AAE5-CEFE89898D41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5838-CA8E-470A-9932-D0F8C775B576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7854-FA03-4615-89EB-BBD4C9E214B1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60D4-D600-47E7-9B05-6EE71BC4A6B5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La petite corpo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 thruBlk="true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ffff"/>
                </a:solidFill>
                <a:latin typeface="Constantia"/>
              </a:rPr>
              <a:t>Taking over half of Europe isn’t as easy as it sound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76120"/>
            <a:ext cx="246240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4617b"/>
                </a:solidFill>
                <a:uFillTx/>
                <a:latin typeface="Calibri"/>
              </a:rPr>
              <a:t>Emperor Napoleon I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Napoleon I was one of the greatest leaders in European history. Napoleon conquered over half of Europe and even crowned himself empe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tbn0.google.com/images?q=tbn:0RpMfJ9GQ2RARM:http://faculty.evansville.edu/ck6/bstud/napoleon.jpg"/>
          <p:cNvPicPr/>
          <p:nvPr/>
        </p:nvPicPr>
        <p:blipFill>
          <a:blip r:embed="rId1"/>
          <a:srcRect l="0" t="19616" r="0" b="19616"/>
          <a:stretch/>
        </p:blipFill>
        <p:spPr>
          <a:xfrm rot="420000">
            <a:off x="3479400" y="1292040"/>
            <a:ext cx="4618080" cy="38383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Taking over Egyp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decided that the British were too powerful to launch a full scale attack on, so he decided to cut off their trading route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took artists aboard his army to study mummies and relic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3574440" y="5214960"/>
            <a:ext cx="680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let.leidenuniv.nl/saqqara/images/egyptology/Napoleon%20in%20Egypt.jpg"/>
          <p:cNvPicPr/>
          <p:nvPr/>
        </p:nvPicPr>
        <p:blipFill>
          <a:blip r:embed="rId1"/>
          <a:stretch/>
        </p:blipFill>
        <p:spPr>
          <a:xfrm>
            <a:off x="5786280" y="1143000"/>
            <a:ext cx="2257560" cy="195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cache.eb.com/eb/image?id=20252&amp;rendTypeId=4"/>
          <p:cNvPicPr/>
          <p:nvPr/>
        </p:nvPicPr>
        <p:blipFill>
          <a:blip r:embed="rId2"/>
          <a:stretch/>
        </p:blipFill>
        <p:spPr>
          <a:xfrm>
            <a:off x="3429000" y="4143240"/>
            <a:ext cx="2714760" cy="2000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4617b"/>
                </a:solidFill>
                <a:latin typeface="Calibri"/>
              </a:rPr>
              <a:t>The Ni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’s plan was going well so far so it was a big blow when the British fleet were waiting for Napole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http://www.napoleonguide.com/images/malta.jpg"/>
          <p:cNvPicPr/>
          <p:nvPr/>
        </p:nvPicPr>
        <p:blipFill>
          <a:blip r:embed="rId2"/>
          <a:stretch/>
        </p:blipFill>
        <p:spPr>
          <a:xfrm rot="445800">
            <a:off x="3444480" y="1290240"/>
            <a:ext cx="47419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4617b"/>
                </a:solidFill>
                <a:latin typeface="Calibri"/>
              </a:rPr>
              <a:t>Retre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After this failure Napoleon fled back to Fr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http://www.mlahanas.de/Greeks/Mythology/Images/SphinxBonaparte.jpg"/>
          <p:cNvPicPr/>
          <p:nvPr/>
        </p:nvPicPr>
        <p:blipFill>
          <a:blip r:embed="rId1"/>
          <a:stretch/>
        </p:blipFill>
        <p:spPr>
          <a:xfrm>
            <a:off x="4786200" y="571680"/>
            <a:ext cx="364356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z.about.com/d/arthistory/1/7/t/M/naponil_05.JPG"/>
          <p:cNvPicPr/>
          <p:nvPr/>
        </p:nvPicPr>
        <p:blipFill>
          <a:blip r:embed="rId2"/>
          <a:stretch/>
        </p:blipFill>
        <p:spPr>
          <a:xfrm>
            <a:off x="571680" y="2928960"/>
            <a:ext cx="2214360" cy="31608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786200" y="32860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When he arrived he was called a hero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http://www.solarnavigator.net/history/explorers_history/Napoleon_Bonaparte_young_officer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57560" cy="242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3286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4617b"/>
                </a:solidFill>
                <a:latin typeface="Calibri"/>
              </a:rPr>
              <a:t>A hero even toda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2209680" cy="2179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 is still remembered today as a hero. There is a statue of him in remembran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His tomb is fit for a k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ddg.com/LIS/InfoDesignF96/Emin/napoleon/images/personal/napoleon8.jpg"/>
          <p:cNvPicPr/>
          <p:nvPr/>
        </p:nvPicPr>
        <p:blipFill>
          <a:blip r:embed="rId1"/>
          <a:stretch/>
        </p:blipFill>
        <p:spPr>
          <a:xfrm rot="21066600">
            <a:off x="4285800" y="135684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6/Tumba_de_Napoleon_Bonaparte.jpg/800px-Tumba_de_Napoleon_Bonaparte.jpg"/>
          <p:cNvPicPr/>
          <p:nvPr/>
        </p:nvPicPr>
        <p:blipFill>
          <a:blip r:embed="rId2"/>
          <a:stretch/>
        </p:blipFill>
        <p:spPr>
          <a:xfrm>
            <a:off x="214200" y="457200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6960" y="1311120"/>
            <a:ext cx="8101080" cy="1432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0280" y="3072240"/>
            <a:ext cx="7827840" cy="11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nstantia"/>
              </a:rPr>
              <a:t>any questions?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u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22:55Z</dcterms:created>
  <dc:creator>room8</dc:creator>
  <dc:description/>
  <dc:language>en-US</dc:language>
  <cp:lastModifiedBy>Ministry of Education</cp:lastModifiedBy>
  <dcterms:modified xsi:type="dcterms:W3CDTF">2008-05-28T03:24:27Z</dcterms:modified>
  <cp:revision>9</cp:revision>
  <dc:subject/>
  <dc:title>Napoleon Bonaparte</dc:title>
</cp:coreProperties>
</file>