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drumroll.wav" ContentType="audio/x-wav"/>
  <Override PartName="/ppt/media/image12.jpeg" ContentType="image/jpeg"/>
  <Override PartName="/ppt/media/applause.wav" ContentType="audio/x-wav"/>
  <Override PartName="/ppt/media/image16.jpeg" ContentType="image/jpeg"/>
  <Override PartName="/ppt/media/image18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1C64-D0E0-487F-B3A8-54B32CA2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A61D-DC5E-4BC9-8E79-A72AECDB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87D4-C682-4040-99E1-B52FD64B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C3BB-EDA8-4809-85DF-7014BE41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CE22-365F-4EA3-9433-96A98F3A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3648-1C25-495C-A983-C1F9D870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1F38-A5E4-4415-AECA-68C539AC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2F80D-4A81-4550-8B23-F37D289F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10F3-DBF0-4DA7-84AD-2F781752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7671-F310-473C-9DA7-F7B02797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1CCA-5F07-4067-A874-F777A42FD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57E7-FC8D-461B-9F56-4D505C04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8224-576D-492C-B6F5-37A2C8E5D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B2D8F-BDDC-4C7A-80BF-E5426AED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36D8-B4D7-46D0-BD27-086C3031C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4ABAC-8AF8-42D0-82EB-859C1087C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342DC-3131-40F3-858E-C1D9C44E8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E4DD1-F2C3-4F38-9B4E-C5F327F0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173EA-9C98-4856-9CC7-26F83E9FF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58D3C-6A5B-4F4E-AA95-D0E2C400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9A69D-9071-445C-80D7-82EC2A05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92332-4C64-4D2C-9573-1332FBC35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5A1D-3BA2-4375-9945-4A819EDF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6F634-5C74-46D0-8050-A51C77112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644B84-DC9A-4290-B400-DAC421D3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8B177-674B-492C-B8CA-F32B6615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3BEA4-F2A3-4543-A335-FE992357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3E306-F941-422A-BD80-B11ACA64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B056E-E9A9-4EBF-934D-4398D8E38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1F6B9-39DB-476D-A260-63EB786B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E7392-ADCA-405E-B3AA-1EB0F0099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89D638-212F-414A-B17E-839C8479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FFB95-42BE-44C6-8584-51319BBE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7169-4517-4977-9A69-19A07E6B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3C6DA6-B8F9-4BB6-ACCE-75A471DA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BAE4C-C5EA-46E0-A7AD-C2A09C7F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D6630-C2F8-4206-8C9A-CD7A11F86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54C670-B274-4632-8592-5E0071FF2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3FA7E-0F79-45F0-B0D6-85E69069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151E1-3075-42E7-A840-CE4885E5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A2CA6-50C8-46FF-9656-09B411122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CA7063-2D06-4656-963E-1BD5FE67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891CD-EEC1-41A2-9758-A1D601B4D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FA00-EFAA-4D93-98B7-447048C9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5536-9686-423B-9A5D-E96AAC2B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A8EC-88DC-4574-92E7-7366D9E36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066C-0B81-46D7-8C44-20B5B775C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FAB6-D947-4088-A29F-F4AAA3F5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741D6-F905-4B87-BEB9-EA920B12C8BC}" type="slidenum">
              <a:rPr b="0" lang="en-N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51491-EFD5-4824-B046-46C4CB97D858}" type="slidenum">
              <a:rPr b="0" lang="en-N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26A7-FA50-4D01-9466-B4410C066B39}" type="slidenum">
              <a:rPr b="0" lang="en-NZ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D594-F001-41AF-B3C9-92521F954516}" type="slidenum">
              <a:rPr b="0" lang="en-NZ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82872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600" spc="-1" strike="noStrike">
                <a:solidFill>
                  <a:srgbClr val="ffffff"/>
                </a:solidFill>
                <a:latin typeface="Constantia"/>
              </a:rPr>
              <a:t>La petite corpora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fade thruBlk="true"/>
    <p:sndAc>
      <p:stSnd>
        <p:snd r:embed="rId2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Title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200" spc="-1" strike="noStrike">
                <a:solidFill>
                  <a:srgbClr val="ffffff"/>
                </a:solidFill>
                <a:latin typeface="Constantia"/>
              </a:rPr>
              <a:t>Taking over half of Europe isn’t as easy as it sounds!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1176120"/>
            <a:ext cx="2462400" cy="9666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 u="sng">
                <a:solidFill>
                  <a:srgbClr val="04617b"/>
                </a:solidFill>
                <a:uFillTx/>
                <a:latin typeface="Calibri"/>
              </a:rPr>
              <a:t>Emperor Napoleon I 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94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nstantia"/>
              </a:rPr>
              <a:t>Napoleon I was one of the greatest leaders in European history. Napoleon conquered over half of Europe and even crowned himself empero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2" descr="http://tbn0.google.com/images?q=tbn:0RpMfJ9GQ2RARM:http://faculty.evansville.edu/ck6/bstud/napoleon.jpg"/>
          <p:cNvPicPr/>
          <p:nvPr/>
        </p:nvPicPr>
        <p:blipFill>
          <a:blip r:embed="rId1"/>
          <a:srcRect l="0" t="19616" r="0" b="19616"/>
          <a:stretch/>
        </p:blipFill>
        <p:spPr>
          <a:xfrm rot="420000">
            <a:off x="3479400" y="1292040"/>
            <a:ext cx="4618080" cy="383832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 u="sng">
                <a:solidFill>
                  <a:srgbClr val="04617b"/>
                </a:solidFill>
                <a:uFillTx/>
                <a:latin typeface="Calibri"/>
              </a:rPr>
              <a:t>Taking over Egypt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nstantia"/>
              </a:rPr>
              <a:t>Napoleon decided that the British were too powerful to launch a full scale attack on, so he decided to cut off their trading route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Constantia"/>
              </a:rPr>
              <a:t>Napoleon took artists aboard his army to study mummies and relics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"/>
          <p:cNvSpPr txBox="1"/>
          <p:nvPr/>
        </p:nvSpPr>
        <p:spPr>
          <a:xfrm rot="10800000">
            <a:off x="3574440" y="5214960"/>
            <a:ext cx="6804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46080" anchor="t">
            <a:normAutofit/>
          </a:bodyPr>
          <a:p>
            <a:pPr marL="272880" indent="-272880">
              <a:lnSpc>
                <a:spcPct val="80000"/>
              </a:lnSpc>
              <a:spcBef>
                <a:spcPts val="1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Picture 2" descr="http://www.let.leidenuniv.nl/saqqara/images/egyptology/Napoleon%20in%20Egypt.jpg"/>
          <p:cNvPicPr/>
          <p:nvPr/>
        </p:nvPicPr>
        <p:blipFill>
          <a:blip r:embed="rId1"/>
          <a:stretch/>
        </p:blipFill>
        <p:spPr>
          <a:xfrm>
            <a:off x="5786280" y="1143000"/>
            <a:ext cx="2257560" cy="1952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http://cache.eb.com/eb/image?id=20252&amp;rendTypeId=4"/>
          <p:cNvPicPr/>
          <p:nvPr/>
        </p:nvPicPr>
        <p:blipFill>
          <a:blip r:embed="rId2"/>
          <a:stretch/>
        </p:blipFill>
        <p:spPr>
          <a:xfrm>
            <a:off x="3429000" y="4143240"/>
            <a:ext cx="2714760" cy="200052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4617b"/>
                </a:solidFill>
                <a:latin typeface="Calibri"/>
              </a:rPr>
              <a:t>The Nil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97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Napoleon’s plan was going well so far so it was a big blow when the British fleet were waiting for Napoleon!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3486240" y="120024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0" name="Picture 2" descr="http://www.napoleonguide.com/images/malta.jpg"/>
          <p:cNvPicPr/>
          <p:nvPr/>
        </p:nvPicPr>
        <p:blipFill>
          <a:blip r:embed="rId2"/>
          <a:stretch/>
        </p:blipFill>
        <p:spPr>
          <a:xfrm rot="445800">
            <a:off x="3444480" y="1290240"/>
            <a:ext cx="4741920" cy="3857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4617b"/>
                </a:solidFill>
                <a:latin typeface="Calibri"/>
              </a:rPr>
              <a:t>Retrea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After this failure Napoleon fled back to Fran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2" descr="http://www.mlahanas.de/Greeks/Mythology/Images/SphinxBonaparte.jpg"/>
          <p:cNvPicPr/>
          <p:nvPr/>
        </p:nvPicPr>
        <p:blipFill>
          <a:blip r:embed="rId1"/>
          <a:stretch/>
        </p:blipFill>
        <p:spPr>
          <a:xfrm>
            <a:off x="4786200" y="571680"/>
            <a:ext cx="3643560" cy="2000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http://z.about.com/d/arthistory/1/7/t/M/naponil_05.JPG"/>
          <p:cNvPicPr/>
          <p:nvPr/>
        </p:nvPicPr>
        <p:blipFill>
          <a:blip r:embed="rId2"/>
          <a:stretch/>
        </p:blipFill>
        <p:spPr>
          <a:xfrm>
            <a:off x="571680" y="2928960"/>
            <a:ext cx="2214360" cy="3160800"/>
          </a:xfrm>
          <a:prstGeom prst="rect">
            <a:avLst/>
          </a:prstGeom>
          <a:ln w="0">
            <a:noFill/>
          </a:ln>
        </p:spPr>
      </p:pic>
      <p:sp>
        <p:nvSpPr>
          <p:cNvPr id="215" name="TextBox 6"/>
          <p:cNvSpPr/>
          <p:nvPr/>
        </p:nvSpPr>
        <p:spPr>
          <a:xfrm>
            <a:off x="4786200" y="328608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onstantia"/>
              </a:rPr>
              <a:t>When he arrived he was called a hero!!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6" descr="http://www.solarnavigator.net/history/explorers_history/Napoleon_Bonaparte_young_officer.jpg"/>
          <p:cNvPicPr/>
          <p:nvPr/>
        </p:nvPicPr>
        <p:blipFill>
          <a:blip r:embed="rId3"/>
          <a:stretch/>
        </p:blipFill>
        <p:spPr>
          <a:xfrm>
            <a:off x="4929120" y="3929040"/>
            <a:ext cx="2257560" cy="24289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4200" y="428400"/>
            <a:ext cx="3286080" cy="92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4617b"/>
                </a:solidFill>
                <a:latin typeface="Calibri"/>
              </a:rPr>
              <a:t>A hero even toda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785960"/>
            <a:ext cx="2209680" cy="2179440"/>
          </a:xfrm>
          <a:prstGeom prst="rect">
            <a:avLst/>
          </a:prstGeom>
          <a:noFill/>
          <a:ln w="0">
            <a:noFill/>
          </a:ln>
        </p:spPr>
        <p:txBody>
          <a:bodyPr lIns="64080" rIns="45720" tIns="46800" anchor="t">
            <a:normAutofit fontScale="87000"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Napoleon is still remembered today as a hero. There is a statue of him in remembranc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Constantia"/>
              </a:rPr>
              <a:t>His tomb is fit for a king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2" descr="http://www.ddg.com/LIS/InfoDesignF96/Emin/napoleon/images/personal/napoleon8.jpg"/>
          <p:cNvPicPr/>
          <p:nvPr/>
        </p:nvPicPr>
        <p:blipFill>
          <a:blip r:embed="rId1"/>
          <a:stretch/>
        </p:blipFill>
        <p:spPr>
          <a:xfrm rot="21066600">
            <a:off x="4285800" y="1356840"/>
            <a:ext cx="2928960" cy="3571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4" descr="http://upload.wikimedia.org/wikipedia/commons/thumb/8/86/Tumba_de_Napoleon_Bonaparte.jpg/800px-Tumba_de_Napoleon_Bonaparte.jpg"/>
          <p:cNvPicPr/>
          <p:nvPr/>
        </p:nvPicPr>
        <p:blipFill>
          <a:blip r:embed="rId2"/>
          <a:stretch/>
        </p:blipFill>
        <p:spPr>
          <a:xfrm>
            <a:off x="214200" y="4572000"/>
            <a:ext cx="2786040" cy="20001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le 1" descr=""/>
          <p:cNvPicPr/>
          <p:nvPr/>
        </p:nvPicPr>
        <p:blipFill>
          <a:blip r:embed="rId1"/>
          <a:stretch/>
        </p:blipFill>
        <p:spPr>
          <a:xfrm>
            <a:off x="426960" y="1311120"/>
            <a:ext cx="8101080" cy="143208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530280" y="3072240"/>
            <a:ext cx="7827840" cy="1189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ffffff"/>
                </a:solidFill>
                <a:latin typeface="Constantia"/>
              </a:rPr>
              <a:t>any questions??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ipe dir="u"/>
    <p:sndAc>
      <p:stSnd>
        <p:snd r:embed="rId2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02:22:55Z</dcterms:created>
  <dc:creator>room8</dc:creator>
  <dc:description/>
  <dc:language>en-US</dc:language>
  <cp:lastModifiedBy>Ministry of Education</cp:lastModifiedBy>
  <dcterms:modified xsi:type="dcterms:W3CDTF">2008-05-28T03:24:27Z</dcterms:modified>
  <cp:revision>9</cp:revision>
  <dc:subject/>
  <dc:title>Napoleon Bonaparte</dc:title>
</cp:coreProperties>
</file>