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drumroll.wav" ContentType="audio/x-wav"/>
  <Override PartName="/ppt/media/image12.jpeg" ContentType="image/jpeg"/>
  <Override PartName="/ppt/media/applause.wav" ContentType="audio/x-wav"/>
  <Override PartName="/ppt/media/image16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C06-F9DD-47AD-BD7F-5A10226A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821-8D66-41BE-BB42-5CCBF6F2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1D8-D2DE-4819-8734-6CC14822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59E-AEE2-449F-9082-BDB2E5FA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1DFB-EA53-403E-B3F2-A22E9EF4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6CCD-1451-46D1-8D63-E3574B04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56C3-8753-4B74-8773-F2EFA5BC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EA8A-07C8-42DE-B48B-B848A672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DCBA-13F7-42B0-8F6A-14F98942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5301-88F3-4AFD-A284-A3D401F5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AC20-DC39-420C-B8EF-5AD1CFB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935-60D7-440D-A3C2-508F86FB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FE2F-4589-40A9-816B-2B5894E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9B3F-D8F9-4AC5-AE1C-3AE2A08C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ABCA-35C7-4A9F-BB47-ACBBCEB9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3234-F97D-4F59-9A30-CDE5038B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3655-E7F6-4661-8CF3-398DF135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CBA4-AC90-48F9-A5A5-EA12A708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30DB-9794-4A5A-9BE0-861637EF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6102-670A-43F4-B598-98351D42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8109-55B4-46DC-8BA7-685675BB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7A74-FC3F-45E4-97BB-4B752844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E94-46B8-496E-A85F-9191FF84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5D4A-63A4-4055-ADCC-BFA5E36C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0854-DF6F-4DFA-8ECD-8BB54E05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9700-9352-468B-8B65-03A19C5A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7B704-4784-466D-9A05-1DA905CA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6B2AC-3A48-47E0-B2D0-549BBBB0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97D5-2798-4BCB-8C37-A0FDABC7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132E-B28F-4F70-BDD0-4038B1F5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26A1-F043-47C5-B033-FED29E2C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DEA25-46A1-433F-B989-DDED1026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C16B-9B9E-47BF-858D-52AA3D27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B07-C7B3-4692-96C4-886F49F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7B4D-BCD1-4E49-8ED4-8919B5F9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A019-225D-43EA-BE74-EC0FBACF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2240-E9A6-43EB-A335-C1F9DEAA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B9F3-71A1-4EE0-85DC-D5B4BDE1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7C6F4-534F-4D0E-9B31-DF094B16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2E6E-231A-4411-8666-9F42E3A5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7077-782C-48A6-8FD0-5837E16A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829AD-C535-4E68-9C18-F9147B93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198F-A19E-492E-8A43-D454C78E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64C-8B46-4F3A-A7AF-2AFD232E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E98-1254-4537-9D67-62792DAE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1B5-00E2-4BFF-B9A8-1BA4C11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18C-D0A6-47CE-89A0-F3A9768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9D2-3DD9-459F-A7A9-1B43F975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FD8-D41F-4562-87C4-A007B220ABFE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A741-91C4-4A22-BDA5-0E8B69371E3B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C00-1C96-4E64-923A-3EE62B9877A4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ACC5-24D3-4BB3-86CA-B1BBB3DD6F70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28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La petite corpor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 thruBlk="true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ffff"/>
                </a:solidFill>
                <a:latin typeface="Constantia"/>
              </a:rPr>
              <a:t>Taking over half of Europe isn’t as easy as it sounds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76120"/>
            <a:ext cx="2462400" cy="96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4617b"/>
                </a:solidFill>
                <a:uFillTx/>
                <a:latin typeface="Calibri"/>
              </a:rPr>
              <a:t>Emperor Napoleon I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4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Napoleon I was one of the greatest leaders in European history. Napoleon conquered over half of Europe and even crowned himself empe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tbn0.google.com/images?q=tbn:0RpMfJ9GQ2RARM:http://faculty.evansville.edu/ck6/bstud/napoleon.jpg"/>
          <p:cNvPicPr/>
          <p:nvPr/>
        </p:nvPicPr>
        <p:blipFill>
          <a:blip r:embed="rId1"/>
          <a:srcRect l="0" t="19616" r="0" b="19616"/>
          <a:stretch/>
        </p:blipFill>
        <p:spPr>
          <a:xfrm rot="420000">
            <a:off x="3479400" y="1292040"/>
            <a:ext cx="4618080" cy="38383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4617b"/>
                </a:solidFill>
                <a:uFillTx/>
                <a:latin typeface="Calibri"/>
              </a:rPr>
              <a:t>Taking over Egyp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Napoleon decided that the British were too powerful to launch a full scale attack on, so he decided to cut off their trading route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Napoleon took artists aboard his army to study mummies and relic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 rot="10800000">
            <a:off x="3574440" y="5214960"/>
            <a:ext cx="6804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4608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ww.let.leidenuniv.nl/saqqara/images/egyptology/Napoleon%20in%20Egypt.jpg"/>
          <p:cNvPicPr/>
          <p:nvPr/>
        </p:nvPicPr>
        <p:blipFill>
          <a:blip r:embed="rId1"/>
          <a:stretch/>
        </p:blipFill>
        <p:spPr>
          <a:xfrm>
            <a:off x="5786280" y="1143000"/>
            <a:ext cx="2257560" cy="1952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cache.eb.com/eb/image?id=20252&amp;rendTypeId=4"/>
          <p:cNvPicPr/>
          <p:nvPr/>
        </p:nvPicPr>
        <p:blipFill>
          <a:blip r:embed="rId2"/>
          <a:stretch/>
        </p:blipFill>
        <p:spPr>
          <a:xfrm>
            <a:off x="3429000" y="4143240"/>
            <a:ext cx="2714760" cy="2000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4617b"/>
                </a:solidFill>
                <a:latin typeface="Calibri"/>
              </a:rPr>
              <a:t>The Nil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Napoleon’s plan was going well so far so it was a big blow when the British fleet were waiting for Napoleon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486240" y="120024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http://www.napoleonguide.com/images/malta.jpg"/>
          <p:cNvPicPr/>
          <p:nvPr/>
        </p:nvPicPr>
        <p:blipFill>
          <a:blip r:embed="rId2"/>
          <a:stretch/>
        </p:blipFill>
        <p:spPr>
          <a:xfrm rot="445800">
            <a:off x="3444480" y="1290240"/>
            <a:ext cx="4741920" cy="385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4617b"/>
                </a:solidFill>
                <a:latin typeface="Calibri"/>
              </a:rPr>
              <a:t>Retrea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After this failure Napoleon fled back to Fr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http://www.mlahanas.de/Greeks/Mythology/Images/SphinxBonaparte.jpg"/>
          <p:cNvPicPr/>
          <p:nvPr/>
        </p:nvPicPr>
        <p:blipFill>
          <a:blip r:embed="rId1"/>
          <a:stretch/>
        </p:blipFill>
        <p:spPr>
          <a:xfrm>
            <a:off x="4786200" y="571680"/>
            <a:ext cx="3643560" cy="2000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z.about.com/d/arthistory/1/7/t/M/naponil_05.JPG"/>
          <p:cNvPicPr/>
          <p:nvPr/>
        </p:nvPicPr>
        <p:blipFill>
          <a:blip r:embed="rId2"/>
          <a:stretch/>
        </p:blipFill>
        <p:spPr>
          <a:xfrm>
            <a:off x="571680" y="2928960"/>
            <a:ext cx="2214360" cy="31608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4786200" y="32860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When he arrived he was called a hero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6" descr="http://www.solarnavigator.net/history/explorers_history/Napoleon_Bonaparte_young_officer.jpg"/>
          <p:cNvPicPr/>
          <p:nvPr/>
        </p:nvPicPr>
        <p:blipFill>
          <a:blip r:embed="rId3"/>
          <a:stretch/>
        </p:blipFill>
        <p:spPr>
          <a:xfrm>
            <a:off x="4929120" y="3929040"/>
            <a:ext cx="2257560" cy="242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328608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4617b"/>
                </a:solidFill>
                <a:latin typeface="Calibri"/>
              </a:rPr>
              <a:t>A hero even toda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785960"/>
            <a:ext cx="2209680" cy="21794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Napoleon is still remembered today as a hero. There is a statue of him in remembranc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His tomb is fit for a k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http://www.ddg.com/LIS/InfoDesignF96/Emin/napoleon/images/personal/napoleon8.jpg"/>
          <p:cNvPicPr/>
          <p:nvPr/>
        </p:nvPicPr>
        <p:blipFill>
          <a:blip r:embed="rId1"/>
          <a:stretch/>
        </p:blipFill>
        <p:spPr>
          <a:xfrm rot="21066600">
            <a:off x="4285800" y="135684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upload.wikimedia.org/wikipedia/commons/thumb/8/86/Tumba_de_Napoleon_Bonaparte.jpg/800px-Tumba_de_Napoleon_Bonaparte.jpg"/>
          <p:cNvPicPr/>
          <p:nvPr/>
        </p:nvPicPr>
        <p:blipFill>
          <a:blip r:embed="rId2"/>
          <a:stretch/>
        </p:blipFill>
        <p:spPr>
          <a:xfrm>
            <a:off x="214200" y="4572000"/>
            <a:ext cx="2786040" cy="2000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26960" y="1311120"/>
            <a:ext cx="8101080" cy="14320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0280" y="3072240"/>
            <a:ext cx="7827840" cy="118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nstantia"/>
              </a:rPr>
              <a:t>any questions?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u"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2:22:55Z</dcterms:created>
  <dc:creator>room8</dc:creator>
  <dc:description/>
  <dc:language>en-US</dc:language>
  <cp:lastModifiedBy>Ministry of Education</cp:lastModifiedBy>
  <dcterms:modified xsi:type="dcterms:W3CDTF">2008-05-28T03:24:27Z</dcterms:modified>
  <cp:revision>9</cp:revision>
  <dc:subject/>
  <dc:title>Napoleon Bonaparte</dc:title>
</cp:coreProperties>
</file>