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FFE7-B46A-48AE-BD81-FEEA309563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3302-6DBD-4D24-B277-44506C124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DC1B-169E-47E8-9F83-1E492178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E521-021F-47D9-8DDD-8C344A70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7FB3-BB83-4970-910E-4D6E2579E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618-924D-46E3-B2DC-1C18366A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A56E-15E9-45BE-A8D8-E6FBCD57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764A-886B-4B72-9DB0-83EFD439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040-B31C-4F14-914F-87F1E63A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EF3F-DE3E-45BC-92A0-1642A02A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5C70-4856-4F98-A923-4CA6A954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BDFE-EB8A-4662-BE5F-BDF80502B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73A1-3CD3-42FF-B039-C9007661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9480-B181-4105-8B5D-13C0C61610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308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Thank you to Jill Hammonds of CORE Education for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Ministry of Education</cp:lastModifiedBy>
  <dcterms:modified xsi:type="dcterms:W3CDTF">2008-04-08T21:02:42Z</dcterms:modified>
  <cp:revision>37</cp:revision>
  <dc:subject/>
  <dc:title>Slide 1</dc:title>
</cp:coreProperties>
</file>