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0CF2-96BC-4817-B17E-1A765CAD2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183-7AE9-4858-A1E2-E75A64CE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1A9-ED3F-4D1A-822C-AB73EF6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6A4-C417-4D16-A893-8C13EC4A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0BE-73BC-476C-BE4D-37CD0103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5DC-CD51-413D-B096-D6E5F6DC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BDB-7DA2-452C-84E7-3279B72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091-CCB6-4AFA-9481-0CF225FB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424-5838-4D23-8FB5-E9E5C16D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3DE-0EB9-4426-9499-FC3BAC81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B9B-86AD-4158-B71A-89501FF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E05-B290-4A98-AD9D-5BF8303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949-017C-4A86-BCA6-B4D4993E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13A1-8360-4D47-ADDD-544D5577E3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libadmin</cp:lastModifiedBy>
  <dcterms:modified xsi:type="dcterms:W3CDTF">2008-04-03T20:54:07Z</dcterms:modified>
  <cp:revision>35</cp:revision>
  <dc:subject/>
  <dc:title>Slide 1</dc:title>
</cp:coreProperties>
</file>