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D4BE-43D4-45E9-B06F-49DAB571B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8A4-A925-4970-8FD4-64ABDBBF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FC3-8143-43DD-9383-ED47A8C7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D96-18A4-43DE-B13F-BA16E8EC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9CC-5846-4661-A714-E2C232EB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11F-4CE9-42D2-AF99-8109C6AD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61F-6877-44E9-98F3-D9EFE6E7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957-B32B-448A-A340-B61CA94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2F2-C1D8-46EA-9B85-D470B783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A56-9AED-4147-AE48-DA6B2D86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337-3B12-44E5-9DE7-106A72C1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2BE-E20D-4A2D-86DB-2751574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985-484D-4A45-B3E2-34766989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A121-B81C-4784-B076-DFFC9DB67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libadmin</cp:lastModifiedBy>
  <dcterms:modified xsi:type="dcterms:W3CDTF">2008-04-03T20:54:07Z</dcterms:modified>
  <cp:revision>35</cp:revision>
  <dc:subject/>
  <dc:title>Slide 1</dc:title>
</cp:coreProperties>
</file>