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FF6A-DB68-4A37-A27F-44AA2CBF129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DB23-3C2B-4AF9-BE66-AEFAF9BE3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308F-F279-46E5-8991-FF20B83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F86-2334-4330-B4BB-9C0ED9C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B5F0-56D9-4047-85E9-69BA2592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04E-0B09-4687-8F6C-21E4815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955A-4536-4B7C-A0D8-9318ED28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FD09-0545-4C31-89E6-E128B9A0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1ED1-FFC8-4ABB-B440-601BC70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3E29-AFDD-49C0-BF92-FD1F3A6E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ED9B-EAD9-487B-8DC2-678FE808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621-4EFB-4B6B-AC37-C86157EA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7E85-B6D8-4F05-BD4F-03C1780E7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B09B-B44B-4E03-8B3F-62808738B1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libadmin</cp:lastModifiedBy>
  <dcterms:modified xsi:type="dcterms:W3CDTF">2008-04-03T20:54:07Z</dcterms:modified>
  <cp:revision>35</cp:revision>
  <dc:subject/>
  <dc:title>Slide 1</dc:title>
</cp:coreProperties>
</file>