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5190-0A2D-4541-A2A2-7BDED9E7E3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EE93-688A-4659-A167-1EF0CCBD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F5DF-F0A0-4CFF-899E-DBCE0809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1BC1-DD0C-4227-8D16-2FE9F61A3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9CD8-AB44-4AFD-802F-77A332FD9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7125-9020-4DDF-9F04-5D171CE9E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4CF8-6E56-4064-BD30-F9F0BFEF8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6907-F22D-49A2-9F17-C58A812A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A623-77B2-4A76-B992-F70610ADE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D565-C084-4DD8-A0BA-06296AD01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74B37-5047-461A-922A-A19A78D4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E002-7FA5-4745-9137-A164525F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F023-9B09-4811-886F-DAA8EB34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FD41-A48D-476D-BEF4-EF6FCB09D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63086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Thank you to Jill Hammonds of CORE Education for this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Ministry of Education</cp:lastModifiedBy>
  <dcterms:modified xsi:type="dcterms:W3CDTF">2008-04-08T21:02:42Z</dcterms:modified>
  <cp:revision>37</cp:revision>
  <dc:subject/>
  <dc:title>Slide 1</dc:title>
</cp:coreProperties>
</file>