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39.png" ContentType="image/png"/>
  <Override PartName="/ppt/media/image11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5.jpeg" ContentType="image/jpeg"/>
  <Override PartName="/ppt/media/image10.jpeg" ContentType="image/jpeg"/>
  <Override PartName="/ppt/media/image7.png" ContentType="image/png"/>
  <Override PartName="/ppt/media/image34.jpeg" ContentType="image/jpeg"/>
  <Override PartName="/ppt/media/image36.png" ContentType="image/png"/>
  <Override PartName="/ppt/media/image40.png" ContentType="image/png"/>
  <Override PartName="/ppt/media/image6.jpeg" ContentType="image/jpeg"/>
  <Override PartName="/ppt/media/image28.png" ContentType="image/png"/>
  <Override PartName="/ppt/media/image38.jpeg" ContentType="image/jpeg"/>
  <Override PartName="/ppt/media/image41.png" ContentType="image/png"/>
  <Override PartName="/ppt/media/image9.wmf" ContentType="image/x-wmf"/>
  <Override PartName="/ppt/media/image13.jpeg" ContentType="image/jpeg"/>
  <Override PartName="/ppt/media/image3.jpeg" ContentType="image/jpeg"/>
  <Override PartName="/ppt/media/image37.jpeg" ContentType="image/jpeg"/>
  <Override PartName="/ppt/media/image12.jpeg" ContentType="image/jpeg"/>
  <Override PartName="/ppt/media/image4.png" ContentType="image/png"/>
  <Override PartName="/ppt/media/image1.gif" ContentType="image/gif"/>
  <Override PartName="/ppt/media/image33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10015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100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5200" y="750600"/>
            <a:ext cx="5008680" cy="3755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55960"/>
            <a:ext cx="54864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511920"/>
            <a:ext cx="297180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3F2B-F003-4DED-9C68-28003577607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5560" y="750960"/>
            <a:ext cx="5008680" cy="37558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755960"/>
            <a:ext cx="502920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 the way in which technology has impacted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 thing is transistion from analogue to dig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CD45-EC60-4C75-BAB3-E9F96DFE7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A169-DA0C-434E-AFD0-8514BAF9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C341-C0A8-4CD0-A45B-F3FBDFF2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43B-430A-4EF8-B694-1AC043011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92B-1A32-4E32-88A4-1D797FDCF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823-AC80-47FB-81D4-E2A99E6B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1728-C525-41A8-B02E-5976260A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0DCF-7FC0-4C34-9B12-46D390B4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9E87-4272-426C-989D-3CD20F3D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BC1-22DC-43BF-BB54-EB06F516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F872-0441-492F-931C-003F8CAF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9434-A383-4E78-B86D-FDDC6C88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130A3-AB4B-472D-A4C0-43EB6D535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0000"/>
                </a:solidFill>
                <a:latin typeface="Arial"/>
              </a:rPr>
              <a:t>CYBERSAFET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916000" y="2205000"/>
            <a:ext cx="5483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Finn Forsyth-W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Meghan Rich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Georgia Dobb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Dan H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333399"/>
                </a:solidFill>
                <a:latin typeface="Arial"/>
              </a:rPr>
              <a:t>(Room 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Sam R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Amisha Pat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Joel Hug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Daniel Gatw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0000"/>
                </a:solidFill>
                <a:latin typeface="Arial"/>
              </a:rPr>
              <a:t>(Room 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51280" y="981000"/>
            <a:ext cx="123192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3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3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3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3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3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3000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3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3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3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3000"/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3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3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26920" y="5805000"/>
            <a:ext cx="4249800" cy="79236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erek Wenmo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82a28"/>
                </a:solidFill>
                <a:latin typeface="Arial"/>
              </a:rPr>
              <a:t>Director, eLearning  Core Education Lt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14400" y="114300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Jazz LET"/>
              </a:rPr>
              <a:t>Thinking Digitally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Jazz LET"/>
              <a:ea typeface="Jazz LET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90720" y="3189240"/>
            <a:ext cx="73152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We must prepare kids for their future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Optima ExtraBlack"/>
              </a:rPr>
              <a:t>not our past..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Optima ExtraBlack"/>
              <a:ea typeface="Optima Extra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To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219320"/>
            <a:ext cx="2667240" cy="4952880"/>
          </a:xfrm>
          <a:prstGeom prst="rect">
            <a:avLst/>
          </a:prstGeom>
          <a:solidFill>
            <a:srgbClr val="dce1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0400" y="1219320"/>
            <a:ext cx="2666880" cy="4952880"/>
          </a:xfrm>
          <a:prstGeom prst="rect">
            <a:avLst/>
          </a:prstGeom>
          <a:solidFill>
            <a:srgbClr val="f1f707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1219320"/>
            <a:ext cx="2666880" cy="4952880"/>
          </a:xfrm>
          <a:prstGeom prst="rect">
            <a:avLst/>
          </a:prstGeom>
          <a:solidFill>
            <a:srgbClr val="f6fa5c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81080"/>
            <a:ext cx="24382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Chalkboard/</a:t>
            </a:r>
            <a:br>
              <a:rPr sz="2000"/>
            </a:b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hite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a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estet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16mm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lide 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ele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F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64640" y="135576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6800" y="135576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55240" y="135576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ex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Txting/Px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Blogs/Wik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od/Vod-ca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ata proj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L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/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Digital cam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iMov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Goo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eer2peer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19920" y="1981080"/>
            <a:ext cx="266688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rtual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Wearable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Ubiquitous ident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oice recogn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Agents and avit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Visua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Miniatur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Reusable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Semantic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Arial"/>
              </a:rPr>
              <a:t>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1789200"/>
            <a:ext cx="7315200" cy="0"/>
          </a:xfrm>
          <a:prstGeom prst="line">
            <a:avLst/>
          </a:prstGeom>
          <a:ln w="28440">
            <a:solidFill>
              <a:srgbClr val="8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2286600">
            <a:off x="304200" y="35053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286600">
            <a:off x="2057040" y="335268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Digit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2286600">
            <a:off x="4047840" y="3355920"/>
            <a:ext cx="2971800" cy="64260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Connect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2286600">
            <a:off x="5415480" y="3354120"/>
            <a:ext cx="3548160" cy="459720"/>
          </a:xfrm>
          <a:prstGeom prst="rect">
            <a:avLst/>
          </a:prstGeom>
          <a:solidFill>
            <a:srgbClr val="9f28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fcfcf"/>
                </a:solidFill>
                <a:latin typeface="Arial"/>
                <a:ea typeface="ＭＳ Ｐゴシック"/>
              </a:rPr>
              <a:t>Anywhere Any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362320" y="15238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pages 4-6,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listen to the tape seg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exercises 3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219320" y="4267080"/>
            <a:ext cx="1218960" cy="1084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438280" y="3886200"/>
            <a:ext cx="762120" cy="677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5562720" y="396252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5105520" y="4343400"/>
            <a:ext cx="1218960" cy="10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we read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362320" y="1523880"/>
            <a:ext cx="39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Read the URL lin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Complete the web ques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Bradley Hand ITC TT-Bold"/>
                <a:ea typeface="ＭＳ Ｐゴシック"/>
              </a:rPr>
              <a:t>Write your answers on  the class wiki or your b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 rot="592800">
            <a:off x="2403360" y="3342960"/>
            <a:ext cx="965160" cy="11826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 rot="592800">
            <a:off x="5791320" y="3581280"/>
            <a:ext cx="841320" cy="1030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 rot="592800">
            <a:off x="1031400" y="3647880"/>
            <a:ext cx="1463760" cy="1792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 rot="592800">
            <a:off x="4800240" y="3886200"/>
            <a:ext cx="14320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2832120" cy="3632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1447920" y="1219320"/>
            <a:ext cx="4079880" cy="31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ext you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NA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352320" y="2743200"/>
            <a:ext cx="1667520" cy="1879560"/>
            <a:chOff x="3352320" y="2743200"/>
            <a:chExt cx="1667520" cy="1879560"/>
          </a:xfrm>
        </p:grpSpPr>
        <p:grpSp>
          <p:nvGrpSpPr>
            <p:cNvPr id="102" name=""/>
            <p:cNvGrpSpPr/>
            <p:nvPr/>
          </p:nvGrpSpPr>
          <p:grpSpPr>
            <a:xfrm>
              <a:off x="3352320" y="2743200"/>
              <a:ext cx="1457640" cy="1879560"/>
              <a:chOff x="3352320" y="2743200"/>
              <a:chExt cx="1457640" cy="1879560"/>
            </a:xfrm>
          </p:grpSpPr>
          <p:sp>
            <p:nvSpPr>
              <p:cNvPr id="103" name=""/>
              <p:cNvSpPr/>
              <p:nvPr/>
            </p:nvSpPr>
            <p:spPr>
              <a:xfrm>
                <a:off x="358128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3351960" y="2743200"/>
                <a:ext cx="1228680" cy="1879560"/>
              </a:xfrm>
              <a:custGeom>
                <a:avLst/>
                <a:gdLst/>
                <a:ahLst/>
                <a:rect l="l" t="t" r="r" b="b"/>
                <a:pathLst>
                  <a:path w="774" h="1184">
                    <a:moveTo>
                      <a:pt x="693" y="119"/>
                    </a:moveTo>
                    <a:cubicBezTo>
                      <a:pt x="588" y="272"/>
                      <a:pt x="774" y="0"/>
                      <a:pt x="407" y="498"/>
                    </a:cubicBezTo>
                    <a:cubicBezTo>
                      <a:pt x="380" y="533"/>
                      <a:pt x="361" y="566"/>
                      <a:pt x="328" y="598"/>
                    </a:cubicBezTo>
                    <a:cubicBezTo>
                      <a:pt x="317" y="620"/>
                      <a:pt x="311" y="656"/>
                      <a:pt x="300" y="677"/>
                    </a:cubicBezTo>
                    <a:cubicBezTo>
                      <a:pt x="285" y="701"/>
                      <a:pt x="250" y="711"/>
                      <a:pt x="228" y="727"/>
                    </a:cubicBezTo>
                    <a:cubicBezTo>
                      <a:pt x="211" y="777"/>
                      <a:pt x="235" y="712"/>
                      <a:pt x="200" y="777"/>
                    </a:cubicBezTo>
                    <a:cubicBezTo>
                      <a:pt x="163" y="843"/>
                      <a:pt x="204" y="781"/>
                      <a:pt x="178" y="841"/>
                    </a:cubicBezTo>
                    <a:cubicBezTo>
                      <a:pt x="164" y="870"/>
                      <a:pt x="143" y="897"/>
                      <a:pt x="128" y="927"/>
                    </a:cubicBezTo>
                    <a:cubicBezTo>
                      <a:pt x="119" y="962"/>
                      <a:pt x="101" y="988"/>
                      <a:pt x="85" y="1020"/>
                    </a:cubicBezTo>
                    <a:cubicBezTo>
                      <a:pt x="36" y="1114"/>
                      <a:pt x="98" y="1002"/>
                      <a:pt x="64" y="1084"/>
                    </a:cubicBezTo>
                    <a:cubicBezTo>
                      <a:pt x="53" y="1109"/>
                      <a:pt x="49" y="1100"/>
                      <a:pt x="35" y="1120"/>
                    </a:cubicBezTo>
                    <a:cubicBezTo>
                      <a:pt x="24" y="1133"/>
                      <a:pt x="7" y="1162"/>
                      <a:pt x="7" y="1162"/>
                    </a:cubicBezTo>
                    <a:cubicBezTo>
                      <a:pt x="4" y="1169"/>
                      <a:pt x="0" y="1184"/>
                      <a:pt x="0" y="1184"/>
                    </a:cubicBezTo>
                  </a:path>
                </a:pathLst>
              </a:custGeom>
              <a:noFill/>
              <a:ln w="76320">
                <a:solidFill>
                  <a:srgbClr val="ee17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"/>
            <p:cNvSpPr txBox="1"/>
            <p:nvPr/>
          </p:nvSpPr>
          <p:spPr>
            <a:xfrm>
              <a:off x="4648320" y="3352680"/>
              <a:ext cx="371520" cy="1192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i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06" name=""/>
          <p:cNvSpPr txBox="1"/>
          <p:nvPr/>
        </p:nvSpPr>
        <p:spPr>
          <a:xfrm>
            <a:off x="2819520" y="5638680"/>
            <a:ext cx="3593880" cy="55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Digital Native Index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4101840" cy="17524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10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ur times in last 48 hours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286000" y="2209680"/>
            <a:ext cx="2654280" cy="1295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1949400" cy="190512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1335240" y="3716280"/>
            <a:ext cx="7287120" cy="2448000"/>
            <a:chOff x="1335240" y="3716280"/>
            <a:chExt cx="7287120" cy="2448000"/>
          </a:xfrm>
        </p:grpSpPr>
        <p:sp>
          <p:nvSpPr>
            <p:cNvPr id="116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2627280" y="4149720"/>
              <a:ext cx="1309680" cy="146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1476360" y="4221000"/>
              <a:ext cx="1106640" cy="12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1335240" y="3716280"/>
              <a:ext cx="2665440" cy="2448000"/>
            </a:xfrm>
            <a:prstGeom prst="noSmoking">
              <a:avLst>
                <a:gd name="adj" fmla="val 12500"/>
              </a:avLst>
            </a:prstGeom>
            <a:solidFill>
              <a:srgbClr val="ff0000">
                <a:alpha val="30000"/>
              </a:srgbClr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547640" y="3500280"/>
            <a:ext cx="7074720" cy="2686320"/>
            <a:chOff x="1547640" y="3500280"/>
            <a:chExt cx="7074720" cy="2686320"/>
          </a:xfrm>
        </p:grpSpPr>
        <p:pic>
          <p:nvPicPr>
            <p:cNvPr id="123" name="" descr=""/>
            <p:cNvPicPr/>
            <p:nvPr/>
          </p:nvPicPr>
          <p:blipFill>
            <a:blip r:embed="rId2"/>
            <a:stretch/>
          </p:blipFill>
          <p:spPr>
            <a:xfrm>
              <a:off x="1547640" y="3500280"/>
              <a:ext cx="2381400" cy="26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363760" y="1676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  <a:ea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186200" y="4437000"/>
            <a:ext cx="7436160" cy="1191240"/>
            <a:chOff x="1186200" y="4437000"/>
            <a:chExt cx="7436160" cy="1191240"/>
          </a:xfrm>
        </p:grpSpPr>
        <p:sp>
          <p:nvSpPr>
            <p:cNvPr id="128" name=""/>
            <p:cNvSpPr/>
            <p:nvPr/>
          </p:nvSpPr>
          <p:spPr>
            <a:xfrm>
              <a:off x="1186200" y="4721400"/>
              <a:ext cx="27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blog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3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838080" y="533520"/>
            <a:ext cx="3409920" cy="2382840"/>
            <a:chOff x="838080" y="533520"/>
            <a:chExt cx="3409920" cy="238284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838080" y="533520"/>
              <a:ext cx="1301760" cy="134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982440" y="2117880"/>
              <a:ext cx="2916360" cy="79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2292120" y="1068480"/>
              <a:ext cx="19558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49520" y="981000"/>
            <a:ext cx="1914480" cy="19144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37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re than once in the l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40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187280" y="488304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ibuted to an articl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Arial"/>
              </a:rPr>
              <a:t>CYBERSAF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will present to you a picture of technology/computers in our socie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hought about the impact of technology on our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explored the issues around internet use and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come up with practical ideas for encouraging internet 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3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411280" y="1260360"/>
            <a:ext cx="466920" cy="181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781520" y="228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187280" y="2209680"/>
            <a:ext cx="7506360" cy="1191240"/>
            <a:chOff x="1187280" y="2209680"/>
            <a:chExt cx="7506360" cy="1191240"/>
          </a:xfrm>
        </p:grpSpPr>
        <p:sp>
          <p:nvSpPr>
            <p:cNvPr id="145" name=""/>
            <p:cNvSpPr/>
            <p:nvPr/>
          </p:nvSpPr>
          <p:spPr>
            <a:xfrm>
              <a:off x="5003280" y="2209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187280" y="228276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 how to use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990720" y="3581280"/>
            <a:ext cx="7143840" cy="2913120"/>
            <a:chOff x="990720" y="3581280"/>
            <a:chExt cx="7143840" cy="2913120"/>
          </a:xfrm>
        </p:grpSpPr>
        <p:grpSp>
          <p:nvGrpSpPr>
            <p:cNvPr id="148" name=""/>
            <p:cNvGrpSpPr/>
            <p:nvPr/>
          </p:nvGrpSpPr>
          <p:grpSpPr>
            <a:xfrm>
              <a:off x="1187280" y="4267080"/>
              <a:ext cx="6947280" cy="1191240"/>
              <a:chOff x="1187280" y="4267080"/>
              <a:chExt cx="6947280" cy="1191240"/>
            </a:xfrm>
          </p:grpSpPr>
          <p:sp>
            <p:nvSpPr>
              <p:cNvPr id="149" name=""/>
              <p:cNvSpPr/>
              <p:nvPr/>
            </p:nvSpPr>
            <p:spPr>
              <a:xfrm>
                <a:off x="5003280" y="4267080"/>
                <a:ext cx="3131280" cy="119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7200" spc="-1" strike="noStrike">
                    <a:solidFill>
                      <a:srgbClr val="333399"/>
                    </a:solidFill>
                    <a:latin typeface="Arial"/>
                    <a:ea typeface="Arial"/>
                  </a:rPr>
                  <a:t>extra 3</a:t>
                </a:r>
                <a:endParaRPr b="0" lang="en-US" sz="7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187280" y="4660920"/>
                <a:ext cx="34560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3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Do you use it?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1" name="" descr=""/>
            <p:cNvPicPr/>
            <p:nvPr/>
          </p:nvPicPr>
          <p:blipFill>
            <a:blip r:embed="rId2"/>
            <a:stretch/>
          </p:blipFill>
          <p:spPr>
            <a:xfrm>
              <a:off x="990720" y="3581280"/>
              <a:ext cx="3846240" cy="29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755640" y="692280"/>
            <a:ext cx="3463920" cy="24732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187280" y="4832280"/>
            <a:ext cx="6947280" cy="1191240"/>
            <a:chOff x="1187280" y="4832280"/>
            <a:chExt cx="6947280" cy="1191240"/>
          </a:xfrm>
        </p:grpSpPr>
        <p:sp>
          <p:nvSpPr>
            <p:cNvPr id="155" name=""/>
            <p:cNvSpPr/>
            <p:nvPr/>
          </p:nvSpPr>
          <p:spPr>
            <a:xfrm>
              <a:off x="1187280" y="522612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n you now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58" name=""/>
            <p:cNvSpPr/>
            <p:nvPr/>
          </p:nvSpPr>
          <p:spPr>
            <a:xfrm>
              <a:off x="1187280" y="3357720"/>
              <a:ext cx="345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n past week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3070080" cy="299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3" name=""/>
            <p:cNvSpPr/>
            <p:nvPr/>
          </p:nvSpPr>
          <p:spPr>
            <a:xfrm>
              <a:off x="1187280" y="4721400"/>
              <a:ext cx="3168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ver ordered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3657600" cy="2854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68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Booked overseas accommodation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1784520" cy="141768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1295280" y="4419720"/>
            <a:ext cx="7327080" cy="1208520"/>
            <a:chOff x="1295280" y="4419720"/>
            <a:chExt cx="7327080" cy="1208520"/>
          </a:xfrm>
        </p:grpSpPr>
        <p:sp>
          <p:nvSpPr>
            <p:cNvPr id="173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95280" y="4419720"/>
              <a:ext cx="28195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Do you have an accoun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2667240" cy="673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1187280" y="3352680"/>
            <a:ext cx="7435080" cy="1191240"/>
            <a:chOff x="1187280" y="3352680"/>
            <a:chExt cx="7435080" cy="1191240"/>
          </a:xfrm>
        </p:grpSpPr>
        <p:sp>
          <p:nvSpPr>
            <p:cNvPr id="177" name=""/>
            <p:cNvSpPr/>
            <p:nvPr/>
          </p:nvSpPr>
          <p:spPr>
            <a:xfrm>
              <a:off x="1187280" y="336528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listened to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000" y="335268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1295280" y="4876920"/>
            <a:ext cx="7435080" cy="1191240"/>
            <a:chOff x="1295280" y="4876920"/>
            <a:chExt cx="7435080" cy="1191240"/>
          </a:xfrm>
        </p:grpSpPr>
        <p:sp>
          <p:nvSpPr>
            <p:cNvPr id="180" name=""/>
            <p:cNvSpPr/>
            <p:nvPr/>
          </p:nvSpPr>
          <p:spPr>
            <a:xfrm>
              <a:off x="1295280" y="488952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f you have uploaded on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40000" y="487692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2590560" cy="10922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2438280" cy="80316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1219320" y="1066680"/>
            <a:ext cx="2603520" cy="66060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87280" y="4437000"/>
            <a:ext cx="7435080" cy="1191240"/>
            <a:chOff x="1187280" y="4437000"/>
            <a:chExt cx="7435080" cy="1191240"/>
          </a:xfrm>
        </p:grpSpPr>
        <p:sp>
          <p:nvSpPr>
            <p:cNvPr id="187" name=""/>
            <p:cNvSpPr/>
            <p:nvPr/>
          </p:nvSpPr>
          <p:spPr>
            <a:xfrm>
              <a:off x="1187280" y="4449600"/>
              <a:ext cx="3600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For each account that you have…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000" y="443700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421160" y="11430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20968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800" spc="-1" strike="noStrike">
                <a:solidFill>
                  <a:srgbClr val="333399"/>
                </a:solidFill>
                <a:latin typeface="Arial"/>
                <a:ea typeface="Arial"/>
              </a:rPr>
              <a:t>eac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0" t="6762" r="0" b="12261"/>
          <a:stretch/>
        </p:blipFill>
        <p:spPr>
          <a:xfrm>
            <a:off x="1003320" y="1413000"/>
            <a:ext cx="4680000" cy="10080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5339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187280" y="4653000"/>
            <a:ext cx="6947280" cy="1556280"/>
            <a:chOff x="1187280" y="4653000"/>
            <a:chExt cx="6947280" cy="1556280"/>
          </a:xfrm>
        </p:grpSpPr>
        <p:sp>
          <p:nvSpPr>
            <p:cNvPr id="194" name=""/>
            <p:cNvSpPr/>
            <p:nvPr/>
          </p:nvSpPr>
          <p:spPr>
            <a:xfrm>
              <a:off x="1187280" y="4653000"/>
              <a:ext cx="3456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 skype to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Video conference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3280" y="4832280"/>
              <a:ext cx="3131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extra 2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187280" y="3284640"/>
            <a:ext cx="7506360" cy="1191240"/>
            <a:chOff x="1187280" y="3284640"/>
            <a:chExt cx="7506360" cy="1191240"/>
          </a:xfrm>
        </p:grpSpPr>
        <p:sp>
          <p:nvSpPr>
            <p:cNvPr id="197" name=""/>
            <p:cNvSpPr/>
            <p:nvPr/>
          </p:nvSpPr>
          <p:spPr>
            <a:xfrm>
              <a:off x="1187280" y="3641760"/>
              <a:ext cx="345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Used it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03280" y="3284640"/>
              <a:ext cx="3690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7200" spc="-1" strike="noStrike">
                  <a:solidFill>
                    <a:srgbClr val="333399"/>
                  </a:solidFill>
                  <a:latin typeface="Arial"/>
                  <a:ea typeface="Arial"/>
                </a:rPr>
                <a:t>bonus 1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258920" y="981000"/>
            <a:ext cx="2616120" cy="20574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87280" y="4449600"/>
            <a:ext cx="36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Ever won an online au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1520" y="74124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000" y="4437000"/>
            <a:ext cx="36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bonus 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87280" y="2565360"/>
            <a:ext cx="36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  <a:ea typeface="Arial"/>
              </a:rPr>
              <a:t>How many active email accounts do you kee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1520" y="174960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e impact of Technology on education and </a:t>
            </a:r>
            <a:br>
              <a:rPr sz="4000"/>
            </a:b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social networ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789440" y="1700280"/>
            <a:ext cx="2236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+1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1080" y="2241720"/>
            <a:ext cx="2014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L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ROTF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CUL8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  <a:ea typeface="Arial"/>
              </a:rPr>
              <a:t>;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32000" y="3213000"/>
            <a:ext cx="374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for e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halve your score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3781440" cy="28717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57080" y="836640"/>
            <a:ext cx="180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N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038480" y="1905120"/>
            <a:ext cx="3240360" cy="32637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79280" y="5084640"/>
            <a:ext cx="882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score by 0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3880" y="533520"/>
            <a:ext cx="533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Only us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3384360" cy="3014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11280" y="508464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333399"/>
                </a:solidFill>
                <a:latin typeface="Arial"/>
                <a:ea typeface="Arial"/>
              </a:rPr>
              <a:t>multiply by 1.5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91400" y="1557360"/>
            <a:ext cx="4583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In your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9600" spc="-1" strike="noStrike">
                <a:solidFill>
                  <a:srgbClr val="333399"/>
                </a:solidFill>
                <a:latin typeface="Arial"/>
                <a:ea typeface="Arial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381800" y="2637000"/>
            <a:ext cx="12826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200" spc="-1" strike="noStrike">
                <a:solidFill>
                  <a:srgbClr val="333399"/>
                </a:solidFill>
                <a:latin typeface="Arial"/>
                <a:ea typeface="Arial"/>
              </a:rPr>
              <a:t>?</a:t>
            </a:r>
            <a:endParaRPr b="0" lang="en-US" sz="1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2209680" y="533520"/>
            <a:ext cx="4419720" cy="55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 what is  your NDI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00400" y="1981080"/>
            <a:ext cx="2892600" cy="272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5+</a:t>
            </a:r>
            <a:endParaRPr b="0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63086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0000"/>
                </a:solidFill>
                <a:latin typeface="Arial"/>
              </a:rPr>
              <a:t>Thank you to Jill Hammonds of CORE Education for this qu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does this pro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ost of us score much higher on the DNI than our Pa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is is because we have grown up with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ose of us with a low DNI, it is because we just aren’t int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So what does this all mean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We are in a time of exponential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333399"/>
                </a:solidFill>
                <a:uFillTx/>
                <a:latin typeface="Arial"/>
              </a:rPr>
              <a:t>Computers have many benefits</a:t>
            </a:r>
            <a:r>
              <a:rPr b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Presentation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esearch – information is at our finger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Interaction and communication with people far and 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3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3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30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nternet/technology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use or not to use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40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presented PMIs examining social netwo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ere are some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3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1773360" y="0"/>
            <a:ext cx="496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47960" y="115560"/>
            <a:ext cx="424476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ast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Room 13 and  Room 9 brainstormed ideas about cybersafet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3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95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9’s ideas…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3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rcRect l="27256" t="14942" r="28127" b="11857"/>
          <a:stretch/>
        </p:blipFill>
        <p:spPr>
          <a:xfrm>
            <a:off x="826920" y="0"/>
            <a:ext cx="748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28995" t="14942" r="28995" b="13468"/>
          <a:stretch/>
        </p:blipFill>
        <p:spPr>
          <a:xfrm>
            <a:off x="1042920" y="-60480"/>
            <a:ext cx="7199280" cy="691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ere are Room 13’s idea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So what are the risks?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internet and today’s ways of social networking have many 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be aware of the dangers of internet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149720"/>
            <a:ext cx="8424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accurat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Accessing inappropriate websites eg pornography, drugs, weap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dentity th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Cyberbull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NZ" sz="1800" spc="-1" strike="noStrike">
                <a:solidFill>
                  <a:srgbClr val="ff0000"/>
                </a:solidFill>
                <a:latin typeface="Arial"/>
              </a:rPr>
              <a:t>Internet pred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3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3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3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0" fill="hold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0" fill="hold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35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Mum/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Be hon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hink my friend has the problem, not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Tell them how it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000000"/>
                </a:solidFill>
                <a:latin typeface="Arial"/>
              </a:rPr>
              <a:t>Check with an adult that I am doing the right 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549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 u="sng">
                <a:solidFill>
                  <a:srgbClr val="000000"/>
                </a:solidFill>
                <a:uFillTx/>
                <a:latin typeface="Arial"/>
              </a:rPr>
              <a:t>Who can I tell about something that makes me feel uncomfortable?  How can I tell the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3000" fill="hold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0" fill="hold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3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3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My friend online is saying stuff that makes me feel weird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Report ab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parents/trusted adult about how I fe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Ignor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talk to them again and let it 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them to stop talking to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Block the per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Ask parents to help deal with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3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3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3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3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03400" y="117000"/>
            <a:ext cx="55562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Pres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Someone is sending me nasty texts – </a:t>
            </a:r>
            <a:br>
              <a:rPr sz="3200"/>
            </a:b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urn off phone and delete texts without looking at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lock your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Get a new sim c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voda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your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text tham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messages and igno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Change your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Bully them back  (we discussed how this doesn’t solve the proble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30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3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3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0" fill="hold"/>
                                        <p:tgtEl>
                                          <p:spTgt spid="2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000000"/>
                </a:solidFill>
                <a:uFillTx/>
                <a:latin typeface="Arial"/>
              </a:rPr>
              <a:t>I saw some pictures on the internet and I don’t feel good about it – what can I do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ell Dad or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elet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Switch off computer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Don’t go on that pag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Put a lock on the website and lea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Cancel the page and tell some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000000"/>
                </a:solidFill>
                <a:latin typeface="Arial"/>
              </a:rPr>
              <a:t>Talk to someone who will comfor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3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3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3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3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3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3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30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0" fill="hold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3000" fill="hold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4000" spc="-1" strike="noStrike" u="sng">
                <a:solidFill>
                  <a:srgbClr val="000000"/>
                </a:solidFill>
                <a:uFillTx/>
                <a:latin typeface="Arial"/>
              </a:rPr>
              <a:t>People are saying mean stuff on my bebo/myspace – what can I d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92640" y="1912320"/>
            <a:ext cx="761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Make the page 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Start a new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logon for a while and they will probably go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on’t reply and report ab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say “please stop, arrrrrrrrrr!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Delete your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them to go away and leave you al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Tell parents or po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216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NZ" sz="2400" spc="-1" strike="noStrike">
                <a:solidFill>
                  <a:srgbClr val="000000"/>
                </a:solidFill>
                <a:latin typeface="Arial"/>
              </a:rPr>
              <a:t>Just don’t go on it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2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3000" fill="hold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0" fill="hold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0" fill="hold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3000" fill="hold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0" fill="hold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0" fill="hold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3000" fill="hold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0" fill="hold"/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internet has values but awareness of dangers are need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Here are our suggestions for parents and children for cyber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6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par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Spend time with your children online,  look at what they are looking 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overreact to ‘bad’ stu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earn about blocking sites and controlling internet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Limit time on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Keep the computer in a family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alk about cyber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onitor use of networking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ke sure profiles are priv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0" fill="hold"/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0" fill="hold"/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0" fill="hold"/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0" fill="hold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0" fill="hold"/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0" fill="hold"/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For child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give out personal details – name, address, phone number, school, photogra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ell an adult if you see something b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 not reply to nasty messages or p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rgue online or use ba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accept offers, even free 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Only go on websites or in chatrooms that your parents have said you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Don’t meet people you met online without your parents say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30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30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0" fill="hold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e have displayed some of our work for you to se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Thank you for listening – we hope you will take away some useful idea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Any questions or comment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2" dur="3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7" dur="3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90720" y="914400"/>
            <a:ext cx="6858000" cy="43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Native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Immigr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have changed radically. Today’s students are no longer the people our educational system was designed to t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today are “native speakers” of the digital language of computers, video games and the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NewRomanPS-BoldItalic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rc Prensky,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16000" y="115560"/>
            <a:ext cx="4392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Rationale for Change:</a:t>
            </a:r>
            <a:br>
              <a:rPr sz="3300"/>
            </a:b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5440" cy="68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09480" y="45720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Technology doesn’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change anything . . 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838080" y="2819520"/>
            <a:ext cx="7772400" cy="285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It changes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verything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1T23:42:01Z</dcterms:created>
  <dc:creator>Administrator</dc:creator>
  <dc:description/>
  <dc:language>en-US</dc:language>
  <cp:lastModifiedBy>Ministry of Education</cp:lastModifiedBy>
  <dcterms:modified xsi:type="dcterms:W3CDTF">2008-04-08T21:02:42Z</dcterms:modified>
  <cp:revision>37</cp:revision>
  <dc:subject/>
  <dc:title>Slide 1</dc:title>
</cp:coreProperties>
</file>