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39.png" ContentType="image/png"/>
  <Override PartName="/ppt/media/image11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7.png" ContentType="image/png"/>
  <Override PartName="/ppt/media/image34.jpeg" ContentType="image/jpeg"/>
  <Override PartName="/ppt/media/image36.png" ContentType="image/png"/>
  <Override PartName="/ppt/media/image40.png" ContentType="image/png"/>
  <Override PartName="/ppt/media/image6.jpeg" ContentType="image/jpeg"/>
  <Override PartName="/ppt/media/image28.png" ContentType="image/png"/>
  <Override PartName="/ppt/media/image38.jpeg" ContentType="image/jpeg"/>
  <Override PartName="/ppt/media/image41.png" ContentType="image/png"/>
  <Override PartName="/ppt/media/image9.wmf" ContentType="image/x-wmf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1.gif" ContentType="image/gif"/>
  <Override PartName="/ppt/media/image33.jpeg" ContentType="image/jpe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100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5200" y="750600"/>
            <a:ext cx="5008680" cy="375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55960"/>
            <a:ext cx="5486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781A-6597-491E-862A-A1C3D030D7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 the way in which technology has impacted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thing is transistion from analogue to dig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4B9D-001B-4549-81DA-1CC69B1D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E44-99E9-4618-975D-C268B3EB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809-FE09-4FFB-B2FF-2F6DE4B5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10CB-BB31-4DA0-8CE1-67B795A9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792-6DD7-40EB-9456-661481CB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26AC-050D-4EBF-BB85-D3420D48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7FD-4D97-4536-BBA9-CC79CCD6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E4E1-1897-4A8E-BED6-444855BB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35C4-02A0-4F12-858A-624D9A9C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62D9-0B0C-4207-B8ED-F3624DD2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694-0329-40B5-B592-99C77287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8D4B-07E4-4777-A749-7C864A9F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A1C6-BDD5-46AD-81FD-F3B6D180E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0000"/>
                </a:solidFill>
                <a:latin typeface="Arial"/>
              </a:rPr>
              <a:t>CYBERSAFE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16000" y="22050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Finn Forsyth-W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Meghan Rich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Georgia Dob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Dan H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Room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Sam R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Amisha P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Joel Hug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Daniel Gat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(Room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51280" y="981000"/>
            <a:ext cx="1231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3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3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3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3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3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3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3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3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3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26920" y="5805000"/>
            <a:ext cx="4249800" cy="7923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2a28"/>
                </a:solidFill>
                <a:latin typeface="Arial"/>
              </a:rPr>
              <a:t>Derek Wenmo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2a28"/>
                </a:solidFill>
                <a:latin typeface="Arial"/>
              </a:rPr>
              <a:t>Director, eLearning  Core Education L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4400" y="1143000"/>
            <a:ext cx="7315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azz LET"/>
              </a:rPr>
              <a:t>Thinking Digitall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azz LET"/>
              <a:ea typeface="Jazz LE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3189240"/>
            <a:ext cx="7315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ptima ExtraBlack"/>
              </a:rPr>
              <a:t>We must prepare kids for their future,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ptima ExtraBlack"/>
              <a:ea typeface="Optima Extra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ptima ExtraBlack"/>
              </a:rPr>
              <a:t>not our past..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ptima ExtraBlack"/>
              <a:ea typeface="Optima Extra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219320"/>
            <a:ext cx="2667240" cy="4952880"/>
          </a:xfrm>
          <a:prstGeom prst="rect">
            <a:avLst/>
          </a:prstGeom>
          <a:solidFill>
            <a:srgbClr val="dce10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1219320"/>
            <a:ext cx="2666880" cy="4952880"/>
          </a:xfrm>
          <a:prstGeom prst="rect">
            <a:avLst/>
          </a:prstGeom>
          <a:solidFill>
            <a:srgbClr val="f1f70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1219320"/>
            <a:ext cx="2666880" cy="4952880"/>
          </a:xfrm>
          <a:prstGeom prst="rect">
            <a:avLst/>
          </a:prstGeom>
          <a:solidFill>
            <a:srgbClr val="f6fa5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81080"/>
            <a:ext cx="24382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Chalkboard/</a:t>
            </a:r>
            <a:br>
              <a:rPr sz="2000"/>
            </a:b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hite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B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este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16mm proj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lide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ele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4640" y="13557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6800" y="135576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55240" y="135576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N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981080"/>
            <a:ext cx="2666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xting/Px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Blogs/Wi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od/Vod-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Data proj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M/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Digital cam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Mov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oo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eer2pe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1981080"/>
            <a:ext cx="2666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irtual re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earable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Ubiquitous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oice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Agents and avit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isu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Miniatur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Reusable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emantic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89200"/>
            <a:ext cx="7315200" cy="0"/>
          </a:xfrm>
          <a:prstGeom prst="line">
            <a:avLst/>
          </a:prstGeom>
          <a:ln w="284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286600">
            <a:off x="304200" y="350532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An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286600">
            <a:off x="2057040" y="335268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Dig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286600">
            <a:off x="4047840" y="335592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Conn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286600">
            <a:off x="5415480" y="3354120"/>
            <a:ext cx="3548160" cy="45972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Anywhere Any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we read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62320" y="15238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Read pages 4-6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listen to the tape seg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Complete exercises 3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19320" y="4267080"/>
            <a:ext cx="1218960" cy="1084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438280" y="3886200"/>
            <a:ext cx="762120" cy="677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562720" y="3962520"/>
            <a:ext cx="761760" cy="677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105520" y="4343400"/>
            <a:ext cx="121896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we read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362320" y="1523880"/>
            <a:ext cx="39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Read the URL lin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Complete the web ques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Write your answers on  the class wiki or your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rot="592800">
            <a:off x="2403360" y="3342960"/>
            <a:ext cx="965160" cy="1182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592800">
            <a:off x="5791320" y="3581280"/>
            <a:ext cx="841320" cy="1030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 rot="592800">
            <a:off x="1031400" y="3647880"/>
            <a:ext cx="1463760" cy="1792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 rot="592800">
            <a:off x="4800240" y="3886200"/>
            <a:ext cx="1432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2832120" cy="3632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447920" y="1219320"/>
            <a:ext cx="4079880" cy="31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xt you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N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352320" y="2743200"/>
            <a:ext cx="1667520" cy="1879560"/>
            <a:chOff x="3352320" y="2743200"/>
            <a:chExt cx="1667520" cy="1879560"/>
          </a:xfrm>
        </p:grpSpPr>
        <p:grpSp>
          <p:nvGrpSpPr>
            <p:cNvPr id="102" name=""/>
            <p:cNvGrpSpPr/>
            <p:nvPr/>
          </p:nvGrpSpPr>
          <p:grpSpPr>
            <a:xfrm>
              <a:off x="3352320" y="2743200"/>
              <a:ext cx="1457640" cy="1879560"/>
              <a:chOff x="3352320" y="2743200"/>
              <a:chExt cx="1457640" cy="1879560"/>
            </a:xfrm>
          </p:grpSpPr>
          <p:sp>
            <p:nvSpPr>
              <p:cNvPr id="103" name=""/>
              <p:cNvSpPr/>
              <p:nvPr/>
            </p:nvSpPr>
            <p:spPr>
              <a:xfrm>
                <a:off x="3581280" y="2743200"/>
                <a:ext cx="1228680" cy="1879560"/>
              </a:xfrm>
              <a:custGeom>
                <a:avLst/>
                <a:gdLst/>
                <a:ahLst/>
                <a:rect l="l" t="t" r="r" b="b"/>
                <a:pathLst>
                  <a:path w="774" h="1184">
                    <a:moveTo>
                      <a:pt x="693" y="119"/>
                    </a:moveTo>
                    <a:cubicBezTo>
                      <a:pt x="588" y="272"/>
                      <a:pt x="774" y="0"/>
                      <a:pt x="407" y="498"/>
                    </a:cubicBezTo>
                    <a:cubicBezTo>
                      <a:pt x="380" y="533"/>
                      <a:pt x="361" y="566"/>
                      <a:pt x="328" y="598"/>
                    </a:cubicBezTo>
                    <a:cubicBezTo>
                      <a:pt x="317" y="620"/>
                      <a:pt x="311" y="656"/>
                      <a:pt x="300" y="677"/>
                    </a:cubicBezTo>
                    <a:cubicBezTo>
                      <a:pt x="285" y="701"/>
                      <a:pt x="250" y="711"/>
                      <a:pt x="228" y="727"/>
                    </a:cubicBezTo>
                    <a:cubicBezTo>
                      <a:pt x="211" y="777"/>
                      <a:pt x="235" y="712"/>
                      <a:pt x="200" y="777"/>
                    </a:cubicBezTo>
                    <a:cubicBezTo>
                      <a:pt x="163" y="843"/>
                      <a:pt x="204" y="781"/>
                      <a:pt x="178" y="841"/>
                    </a:cubicBezTo>
                    <a:cubicBezTo>
                      <a:pt x="164" y="870"/>
                      <a:pt x="143" y="897"/>
                      <a:pt x="128" y="927"/>
                    </a:cubicBezTo>
                    <a:cubicBezTo>
                      <a:pt x="119" y="962"/>
                      <a:pt x="101" y="988"/>
                      <a:pt x="85" y="1020"/>
                    </a:cubicBezTo>
                    <a:cubicBezTo>
                      <a:pt x="36" y="1114"/>
                      <a:pt x="98" y="1002"/>
                      <a:pt x="64" y="1084"/>
                    </a:cubicBezTo>
                    <a:cubicBezTo>
                      <a:pt x="53" y="1109"/>
                      <a:pt x="49" y="1100"/>
                      <a:pt x="35" y="1120"/>
                    </a:cubicBezTo>
                    <a:cubicBezTo>
                      <a:pt x="24" y="1133"/>
                      <a:pt x="7" y="1162"/>
                      <a:pt x="7" y="1162"/>
                    </a:cubicBezTo>
                    <a:cubicBezTo>
                      <a:pt x="4" y="1169"/>
                      <a:pt x="0" y="1184"/>
                      <a:pt x="0" y="1184"/>
                    </a:cubicBezTo>
                  </a:path>
                </a:pathLst>
              </a:custGeom>
              <a:noFill/>
              <a:ln w="76320">
                <a:solidFill>
                  <a:srgbClr val="ee17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3351960" y="2743200"/>
                <a:ext cx="1228680" cy="1879560"/>
              </a:xfrm>
              <a:custGeom>
                <a:avLst/>
                <a:gdLst/>
                <a:ahLst/>
                <a:rect l="l" t="t" r="r" b="b"/>
                <a:pathLst>
                  <a:path w="774" h="1184">
                    <a:moveTo>
                      <a:pt x="693" y="119"/>
                    </a:moveTo>
                    <a:cubicBezTo>
                      <a:pt x="588" y="272"/>
                      <a:pt x="774" y="0"/>
                      <a:pt x="407" y="498"/>
                    </a:cubicBezTo>
                    <a:cubicBezTo>
                      <a:pt x="380" y="533"/>
                      <a:pt x="361" y="566"/>
                      <a:pt x="328" y="598"/>
                    </a:cubicBezTo>
                    <a:cubicBezTo>
                      <a:pt x="317" y="620"/>
                      <a:pt x="311" y="656"/>
                      <a:pt x="300" y="677"/>
                    </a:cubicBezTo>
                    <a:cubicBezTo>
                      <a:pt x="285" y="701"/>
                      <a:pt x="250" y="711"/>
                      <a:pt x="228" y="727"/>
                    </a:cubicBezTo>
                    <a:cubicBezTo>
                      <a:pt x="211" y="777"/>
                      <a:pt x="235" y="712"/>
                      <a:pt x="200" y="777"/>
                    </a:cubicBezTo>
                    <a:cubicBezTo>
                      <a:pt x="163" y="843"/>
                      <a:pt x="204" y="781"/>
                      <a:pt x="178" y="841"/>
                    </a:cubicBezTo>
                    <a:cubicBezTo>
                      <a:pt x="164" y="870"/>
                      <a:pt x="143" y="897"/>
                      <a:pt x="128" y="927"/>
                    </a:cubicBezTo>
                    <a:cubicBezTo>
                      <a:pt x="119" y="962"/>
                      <a:pt x="101" y="988"/>
                      <a:pt x="85" y="1020"/>
                    </a:cubicBezTo>
                    <a:cubicBezTo>
                      <a:pt x="36" y="1114"/>
                      <a:pt x="98" y="1002"/>
                      <a:pt x="64" y="1084"/>
                    </a:cubicBezTo>
                    <a:cubicBezTo>
                      <a:pt x="53" y="1109"/>
                      <a:pt x="49" y="1100"/>
                      <a:pt x="35" y="1120"/>
                    </a:cubicBezTo>
                    <a:cubicBezTo>
                      <a:pt x="24" y="1133"/>
                      <a:pt x="7" y="1162"/>
                      <a:pt x="7" y="1162"/>
                    </a:cubicBezTo>
                    <a:cubicBezTo>
                      <a:pt x="4" y="1169"/>
                      <a:pt x="0" y="1184"/>
                      <a:pt x="0" y="1184"/>
                    </a:cubicBezTo>
                  </a:path>
                </a:pathLst>
              </a:custGeom>
              <a:noFill/>
              <a:ln w="76320">
                <a:solidFill>
                  <a:srgbClr val="ee17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 txBox="1"/>
            <p:nvPr/>
          </p:nvSpPr>
          <p:spPr>
            <a:xfrm>
              <a:off x="4648320" y="3352680"/>
              <a:ext cx="371520" cy="119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i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06" name=""/>
          <p:cNvSpPr txBox="1"/>
          <p:nvPr/>
        </p:nvSpPr>
        <p:spPr>
          <a:xfrm>
            <a:off x="2819520" y="5638680"/>
            <a:ext cx="359388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 Native Index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4101840" cy="1752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10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r times in last 48 hours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2654280" cy="129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03280" y="765000"/>
            <a:ext cx="1949400" cy="190512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335240" y="3716280"/>
            <a:ext cx="7287120" cy="2448000"/>
            <a:chOff x="1335240" y="3716280"/>
            <a:chExt cx="7287120" cy="2448000"/>
          </a:xfrm>
        </p:grpSpPr>
        <p:sp>
          <p:nvSpPr>
            <p:cNvPr id="116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2627280" y="4149720"/>
              <a:ext cx="1309680" cy="14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1476360" y="4221000"/>
              <a:ext cx="110664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335240" y="3716280"/>
              <a:ext cx="2665440" cy="2448000"/>
            </a:xfrm>
            <a:prstGeom prst="noSmoking">
              <a:avLst>
                <a:gd name="adj" fmla="val 12500"/>
              </a:avLst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47640" y="3500280"/>
            <a:ext cx="7074720" cy="2686320"/>
            <a:chOff x="1547640" y="3500280"/>
            <a:chExt cx="7074720" cy="268632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1547640" y="3500280"/>
              <a:ext cx="2381400" cy="26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363760" y="1676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186200" y="4437000"/>
            <a:ext cx="7436160" cy="1191240"/>
            <a:chOff x="1186200" y="4437000"/>
            <a:chExt cx="7436160" cy="1191240"/>
          </a:xfrm>
        </p:grpSpPr>
        <p:sp>
          <p:nvSpPr>
            <p:cNvPr id="128" name=""/>
            <p:cNvSpPr/>
            <p:nvPr/>
          </p:nvSpPr>
          <p:spPr>
            <a:xfrm>
              <a:off x="1186200" y="4721400"/>
              <a:ext cx="277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 you blog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38080" y="533520"/>
            <a:ext cx="3409920" cy="2382840"/>
            <a:chOff x="838080" y="533520"/>
            <a:chExt cx="3409920" cy="238284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838080" y="533520"/>
              <a:ext cx="130176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982440" y="2117880"/>
              <a:ext cx="291636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292120" y="1068480"/>
              <a:ext cx="19558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49520" y="981000"/>
            <a:ext cx="1914480" cy="1914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37" name=""/>
            <p:cNvSpPr/>
            <p:nvPr/>
          </p:nvSpPr>
          <p:spPr>
            <a:xfrm>
              <a:off x="1187280" y="335772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than once in the last week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187280" y="4832280"/>
            <a:ext cx="6947280" cy="1191240"/>
            <a:chOff x="1187280" y="4832280"/>
            <a:chExt cx="6947280" cy="1191240"/>
          </a:xfrm>
        </p:grpSpPr>
        <p:sp>
          <p:nvSpPr>
            <p:cNvPr id="140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87280" y="488304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ted to an articl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CYBER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will present to you a picture of technology/computers in our socie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thought about the impact of technology on our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explored the issues around internet use and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come up with practical ideas for encouraging 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11280" y="1260360"/>
            <a:ext cx="466920" cy="181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81520" y="2286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87280" y="2209680"/>
            <a:ext cx="7506360" cy="1191240"/>
            <a:chOff x="1187280" y="2209680"/>
            <a:chExt cx="7506360" cy="1191240"/>
          </a:xfrm>
        </p:grpSpPr>
        <p:sp>
          <p:nvSpPr>
            <p:cNvPr id="145" name=""/>
            <p:cNvSpPr/>
            <p:nvPr/>
          </p:nvSpPr>
          <p:spPr>
            <a:xfrm>
              <a:off x="5003280" y="220968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7280" y="228276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 how to use i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990720" y="3581280"/>
            <a:ext cx="7143840" cy="2913120"/>
            <a:chOff x="990720" y="3581280"/>
            <a:chExt cx="7143840" cy="2913120"/>
          </a:xfrm>
        </p:grpSpPr>
        <p:grpSp>
          <p:nvGrpSpPr>
            <p:cNvPr id="148" name=""/>
            <p:cNvGrpSpPr/>
            <p:nvPr/>
          </p:nvGrpSpPr>
          <p:grpSpPr>
            <a:xfrm>
              <a:off x="1187280" y="4267080"/>
              <a:ext cx="6947280" cy="1191240"/>
              <a:chOff x="1187280" y="4267080"/>
              <a:chExt cx="6947280" cy="1191240"/>
            </a:xfrm>
          </p:grpSpPr>
          <p:sp>
            <p:nvSpPr>
              <p:cNvPr id="149" name=""/>
              <p:cNvSpPr/>
              <p:nvPr/>
            </p:nvSpPr>
            <p:spPr>
              <a:xfrm>
                <a:off x="5003280" y="4267080"/>
                <a:ext cx="31312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72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extra 3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87280" y="4660920"/>
                <a:ext cx="345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 you use it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990720" y="3581280"/>
              <a:ext cx="3846240" cy="29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3463920" cy="2473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187280" y="4832280"/>
            <a:ext cx="6947280" cy="1191240"/>
            <a:chOff x="1187280" y="4832280"/>
            <a:chExt cx="6947280" cy="1191240"/>
          </a:xfrm>
        </p:grpSpPr>
        <p:sp>
          <p:nvSpPr>
            <p:cNvPr id="155" name=""/>
            <p:cNvSpPr/>
            <p:nvPr/>
          </p:nvSpPr>
          <p:spPr>
            <a:xfrm>
              <a:off x="1187280" y="5226120"/>
              <a:ext cx="34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you now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58" name=""/>
            <p:cNvSpPr/>
            <p:nvPr/>
          </p:nvSpPr>
          <p:spPr>
            <a:xfrm>
              <a:off x="1187280" y="335772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d in past week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3070080" cy="2998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63" name=""/>
            <p:cNvSpPr/>
            <p:nvPr/>
          </p:nvSpPr>
          <p:spPr>
            <a:xfrm>
              <a:off x="1187280" y="4721400"/>
              <a:ext cx="316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ver ordered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3657600" cy="2854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68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oked overseas accommodation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1784520" cy="1417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295280" y="4419720"/>
            <a:ext cx="7327080" cy="1208520"/>
            <a:chOff x="1295280" y="4419720"/>
            <a:chExt cx="7327080" cy="1208520"/>
          </a:xfrm>
        </p:grpSpPr>
        <p:sp>
          <p:nvSpPr>
            <p:cNvPr id="173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95280" y="4419720"/>
              <a:ext cx="2819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 you have an accoun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667240" cy="6732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1187280" y="3352680"/>
            <a:ext cx="7435080" cy="1191240"/>
            <a:chOff x="1187280" y="3352680"/>
            <a:chExt cx="7435080" cy="1191240"/>
          </a:xfrm>
        </p:grpSpPr>
        <p:sp>
          <p:nvSpPr>
            <p:cNvPr id="177" name=""/>
            <p:cNvSpPr/>
            <p:nvPr/>
          </p:nvSpPr>
          <p:spPr>
            <a:xfrm>
              <a:off x="1187280" y="336528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you have listened to on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32000" y="335268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295280" y="4876920"/>
            <a:ext cx="7435080" cy="1191240"/>
            <a:chOff x="1295280" y="4876920"/>
            <a:chExt cx="7435080" cy="1191240"/>
          </a:xfrm>
        </p:grpSpPr>
        <p:sp>
          <p:nvSpPr>
            <p:cNvPr id="180" name=""/>
            <p:cNvSpPr/>
            <p:nvPr/>
          </p:nvSpPr>
          <p:spPr>
            <a:xfrm>
              <a:off x="1295280" y="488952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you have uploaded on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0000" y="487692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421160" y="11430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590560" cy="1092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447920" y="3200400"/>
            <a:ext cx="2438280" cy="803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219320" y="1066680"/>
            <a:ext cx="2603520" cy="66060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87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each account that you have…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421160" y="11430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2096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333399"/>
                </a:solidFill>
                <a:latin typeface="Arial"/>
                <a:ea typeface="Arial"/>
              </a:rPr>
              <a:t>ea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6762" r="0" b="12261"/>
          <a:stretch/>
        </p:blipFill>
        <p:spPr>
          <a:xfrm>
            <a:off x="1003320" y="1413000"/>
            <a:ext cx="4680000" cy="100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5339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187280" y="4653000"/>
            <a:ext cx="6947280" cy="1556280"/>
            <a:chOff x="1187280" y="4653000"/>
            <a:chExt cx="6947280" cy="1556280"/>
          </a:xfrm>
        </p:grpSpPr>
        <p:sp>
          <p:nvSpPr>
            <p:cNvPr id="194" name=""/>
            <p:cNvSpPr/>
            <p:nvPr/>
          </p:nvSpPr>
          <p:spPr>
            <a:xfrm>
              <a:off x="1187280" y="4653000"/>
              <a:ext cx="3456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 skype t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deo conferenc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97" name=""/>
            <p:cNvSpPr/>
            <p:nvPr/>
          </p:nvSpPr>
          <p:spPr>
            <a:xfrm>
              <a:off x="1187280" y="3641760"/>
              <a:ext cx="34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d i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2616120" cy="2057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87280" y="444960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  <a:ea typeface="Arial"/>
              </a:rPr>
              <a:t>Ever won an online a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32000" y="4437000"/>
            <a:ext cx="36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bonus 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87280" y="2565360"/>
            <a:ext cx="36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  <a:ea typeface="Arial"/>
              </a:rPr>
              <a:t>How many active email accounts do you kee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1520" y="17496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32000" y="3213000"/>
            <a:ext cx="374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for e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he impact of Technology on education and 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social networ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789440" y="170028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1080" y="2241720"/>
            <a:ext cx="2014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L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ROTF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CUL8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;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32000" y="3213000"/>
            <a:ext cx="374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for e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50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halve your score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781440" cy="2871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7080" y="836640"/>
            <a:ext cx="180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N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3240360" cy="3263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79280" y="508464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Multiply score by 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880" y="533520"/>
            <a:ext cx="533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Only u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384360" cy="3014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11280" y="50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multiply by 1.5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91400" y="1557360"/>
            <a:ext cx="4583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In your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h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209680" y="533520"/>
            <a:ext cx="441972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 what is  your NDI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00400" y="1981080"/>
            <a:ext cx="2892600" cy="272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5+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630864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Thank you to Jill Hammonds of CORE Education for this qu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does this pro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st of us score much higher on the DNI than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is because we have grown up wit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ose of us with a low DNI, it is because we just aren’t into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3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o what does this all mea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We are in a time of exponential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333399"/>
                </a:solidFill>
                <a:uFillTx/>
                <a:latin typeface="Arial"/>
              </a:rPr>
              <a:t>Computers have many benefits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Presentation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Research – information is at our fingert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Interaction and communication with people far and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nternet/technology –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 use or not to u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0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presented PMIs examining social 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re are som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3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77336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47960" y="115560"/>
            <a:ext cx="424476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ast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Room 13 and  Room 9 brainstormed ideas about cybersafet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3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re are Room 9’s ide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27256" t="14942" r="28127" b="11857"/>
          <a:stretch/>
        </p:blipFill>
        <p:spPr>
          <a:xfrm>
            <a:off x="826920" y="0"/>
            <a:ext cx="74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28995" t="14942" r="28995" b="13468"/>
          <a:stretch/>
        </p:blipFill>
        <p:spPr>
          <a:xfrm>
            <a:off x="1042920" y="-60480"/>
            <a:ext cx="719928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re are Room 13’s idea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o what are the risks?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internet and today’s ways of social networking have many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to be aware of the dangers of internet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149720"/>
            <a:ext cx="8424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naccurat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Accessing inappropriate websites eg pornography, drugs, weap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dentity th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Cyber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nternet pred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3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3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3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3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3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3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5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Mum/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Be hon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hink my friend has the problem, not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ell them how 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Check with an adult that I am doing the right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549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Who can I tell about something that makes me feel uncomfortable?  How can I tell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3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3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3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3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My friend online is saying stuff that makes me feel weird – 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Report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alk to parents/trusted adult about how I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Ignor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on’t talk to them again and let it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them to stop talking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Block the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Ask parents to help deal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3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3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3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3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3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3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03400" y="117000"/>
            <a:ext cx="55562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res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Someone is sending me nasty texts – </a:t>
            </a:r>
            <a:br>
              <a:rPr sz="3200"/>
            </a:b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urn off phone and delete texts without looking a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Block your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Get a new sim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voda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you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text tham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elete messages and ignor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Change your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Bully them back  (we discussed how this doesn’t solve the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 saw some pictures on the internet and I don’t feel good about it – 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Dad or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ele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Switch off computer and 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on’t go on that pag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Put a lock on the website and lea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Cancel the page and 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alk to someone who will comfor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3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3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3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3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3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3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3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3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3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3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3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3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3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3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People are saying mean stuff on my bebo/myspace – what can I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2640" y="1912320"/>
            <a:ext cx="761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Make the page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Start a new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logon for a while and they will probably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reply and report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Just say “please stop, arrrrrrrrrr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elete you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them to go away and leave you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parents or 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Just don’t go on it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internet has values but awareness of dangers are nee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Here are our suggestions for parents and children for cyber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 pa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Spend time with your children online,  look at what they are looking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overreact to ‘bad’ st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Learn about blocking sites and controlling internet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Limit time 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Keep the computer in a family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Talk about cyber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onitor use of networking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ake sure profiles are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give out personal details – name, address, phone number, school, photo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Tell an adult if you see something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 not reply to nasty messages or p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argue online or use bad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accept offers, even free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Only go on websites or in chatrooms that your parents have said you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meet people you met online without your parents say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3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3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e have displayed some of our work for you to se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hank you for listening – we hope you will take away some useful ide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Any questions or 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2" dur="3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7" dur="3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85800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Native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Im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have changed radically. Today’s students are no longer the people our educational system was designed to t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today are “native speakers” of the digital language of computers, video games and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-BoldItalic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rc Prensky,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4392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457200"/>
            <a:ext cx="7772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Technology doesn’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ange anything . . 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2819520"/>
            <a:ext cx="7772400" cy="28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t chang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verything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23:42:01Z</dcterms:created>
  <dc:creator>Administrator</dc:creator>
  <dc:description/>
  <dc:language>en-US</dc:language>
  <cp:lastModifiedBy>Ministry of Education</cp:lastModifiedBy>
  <dcterms:modified xsi:type="dcterms:W3CDTF">2008-04-08T21:02:42Z</dcterms:modified>
  <cp:revision>37</cp:revision>
  <dc:subject/>
  <dc:title>Slide 1</dc:title>
</cp:coreProperties>
</file>