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74D5D-0E12-4116-A077-FB32528A666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name is g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D438-D541-4536-A373-201438ED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A264A-8AD1-4D63-803F-C8461B6F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F5C-205F-4C48-96C1-8DACAD292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DA0-931E-4016-838C-7CCEF1930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2DF3A-EAD6-472E-B22C-EAC12B104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538BC2-C3DF-4E48-ABF5-2F0D8910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7D279-F5DC-4073-BB86-609F6E10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B6A16-2E4D-443E-9BE3-82F8DB1C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B0534-87B3-4161-A4AE-20360EE9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57035F-2F03-4492-B851-FCD70424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7CEEE8-33CE-45E5-B5BA-848CADB2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0398-810D-4D06-B93A-78FEBCFE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A8619-74F2-4C05-AB64-D89629D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3EEF0-5598-4684-BB09-4504CAD4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FA7630-5466-47C5-BBF7-A24E9C95D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63AEB-E0C3-4C91-8E68-A59DAD5E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68651F-0119-4305-8A78-43B66E77B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8988B-EA56-4AE8-950A-8457B2CD9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2D4EC-49B7-4973-A56C-9160899FE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9A839-025C-4F71-98A1-BE65517D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C965D-247E-4A5E-9309-E4B4BFF38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16989-9BE3-41A4-B8B8-04E421A0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3DB-A9F3-4AB0-BEF9-5D861ADC5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E542E-40ED-4B5B-9B48-4D2EADF5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2A6A-6118-4526-B326-60303674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86E23-5CE7-45C3-9D76-7087E4F4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7D47F-B2C7-4FD3-8D90-1C2410973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73B1A-F973-45E6-A8EC-40EA5082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DEFC-FD86-4388-A88B-AC0DC2C3A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97CBE-48B1-4D52-9644-D46EAF43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3D43F-32C6-4748-AB03-B3FAA558E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43467C-5D23-46F0-9551-CA1D2003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DA299-2029-496C-B185-72FE9417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DB2-4222-4540-954C-FCA7DE89B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36E12-1240-472C-AB0C-8C3E5806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F3D9D-3A8A-453B-8A24-ABE658A2B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7DB86-D3D1-4CE1-8114-E9F4F8C4B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C15C7-22FA-4854-8F51-2FD384664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B6F47-6717-4B9E-AA30-93DC8FE51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CF744-4B92-4AD0-9A2E-B2D8E688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AF986-3C36-47ED-A52D-8A3C7B35C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DAB43-C63B-4545-A0A6-45954562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3ED36-4660-46B0-ABD2-63CFC1BA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27466-D256-4982-B2E6-D69AB515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01E3-DEC5-4CF1-982B-04909CD4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5EF99-69C9-413A-B445-2D71C047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B9F9B7-AAAD-4D50-953E-B8A7BF02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6CBAA-01EA-4B17-BD22-831FB0CC0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FE3C8-3836-46F7-BC0B-D100D35F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8A8A7-EFEE-4171-AC67-24484302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7AF8F-82D4-4BF7-9635-A7C2BCCB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80BB9-0543-404D-897F-6F2D8D4DB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41CE6-ED22-4E5F-9048-7F9546C9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836BE-0CF3-4481-AAB0-F27E2E791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D56DB-CBB5-4798-971F-CE2F9F748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EABB-DCB7-4FFA-B151-E2E31CE1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482EE-CD52-451B-94FC-82348A091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24D44-F53F-4738-840A-0C2BED56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F6E6F-2ABE-4424-9914-5078EC1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67412D-F637-4F78-87F8-2934A86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D203C-05EE-46CD-8FB5-EEDF7F05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51BC-BB89-4A13-A36A-C9E9B245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C6F018-2E48-4E73-B397-56F428AE8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9225D-4A50-4D32-AA37-D34D34EDF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D56E0-C30B-40CF-BD68-F06EE747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FA790-E1EE-4960-91EE-C893AD1A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205D-2CE8-4669-8CAD-345984CB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3FA58-CC46-4AA0-AE38-72CD487F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FC0BE1-DB05-4F9A-8A99-1144717F8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8D339-5148-4A40-9D4C-73E6CF210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FB9-772E-4F07-8A80-B0D82423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E18F-ABC8-49DE-B439-A097AC890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79A6-4155-4629-AD9B-07FE2E25ED63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0B71-54A2-4676-A581-243A80F01D7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F86B-C107-4F1F-8139-A4BD0485C36B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F107-E3B4-4A4D-B8B7-CD866E61F7D9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0ABC9-F154-4DBB-A843-A79CE4DCE539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EF92-8428-4779-B0B4-447DA8388F7B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mg.timeinc.net/Life/lifebooks/hillary/images/hillary.jpg&amp;imgrefurl=http://johnling.wordpress.com/&amp;h=340&amp;w=333&amp;sz=14&amp;hl=en&amp;start=6&amp;um=1&amp;tbnid=7IHzYBYya1VjhM:&amp;tbnh=119&amp;tbnw=117&amp;prev=/images%3Fq%3Dsir%2Bedmund%2Bhilla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www.bio.davidson.edu/people/macampbell/Juniata/Hillary.jpg&amp;imgrefurl=http://www.bio.davidson.edu/people/macampbell/Juniata/trail.html&amp;h=400&amp;w=303&amp;sz=39&amp;hl=en&amp;start=4&amp;um=1&amp;tbnid=zkZhVJB1wBf-cM:&amp;tbnh=124&amp;tbnw=94&amp;prev=/images%3Fq%3Dsir%2Bedmund%2Bhillary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.nz/imgres?imgurl=http://cache.eb.com/eb/image%3Fid%3D11031%26rendTypeId%3D4&amp;imgrefurl=http://www.student.britannica.com/eb/art-11603/Sir-Edmund-Hillary-1956&amp;h=300&amp;w=234&amp;sz=20&amp;hl=en&amp;start=9&amp;tbnid=2lPRGa_tzp5rOM:&amp;tbnh=116&amp;tbnw=90&amp;prev=/images%3Fq%3Dsir%2Bedmund%2Bhilary%26gbv%3D2%26hl%3Den%26sa%3D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18302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-326880" y="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55640" y="2133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Gungsuh"/>
                <a:ea typeface="Arial"/>
              </a:rPr>
              <a:t>Is Sir Edmund Hillary and I the same and different</a:t>
            </a:r>
            <a:r>
              <a:rPr b="0" i="1" lang="en-NZ" sz="2400" spc="-1" strike="noStrike">
                <a:solidFill>
                  <a:srgbClr val="ff0000"/>
                </a:solidFill>
                <a:latin typeface="Gungsuh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Gungsuh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4941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33cc33"/>
                </a:solidFill>
                <a:latin typeface="Arial Rounded MT Bold"/>
                <a:ea typeface="Arial"/>
              </a:rPr>
              <a:t>An  analysis of  our Sir Edmund Hilary unit</a:t>
            </a:r>
            <a:r>
              <a:rPr b="1" i="1" lang="en-NZ" sz="2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4000" spc="-1" strike="noStrike">
                <a:solidFill>
                  <a:srgbClr val="ffff00"/>
                </a:solidFill>
                <a:latin typeface="Gungsuh"/>
              </a:rPr>
              <a:t>my qual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492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236000" y="1268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125360"/>
            <a:ext cx="3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700280"/>
            <a:ext cx="4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2637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A great team p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2060640"/>
            <a:ext cx="446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56536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35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I take charg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4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221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I am hard working and determined</a:t>
            </a:r>
            <a:r>
              <a:rPr b="1" lang="en-GB" sz="18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10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19162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 love a physical challenge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8360" y="2133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8360" y="335772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292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800"/>
                </a:solidFill>
                <a:latin typeface="Arial"/>
                <a:ea typeface="Arial"/>
              </a:rPr>
              <a:t>I love to take big ris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213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am persistent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4508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54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'm physically f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51640" y="314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have lots of courag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61960" cy="1949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rot="5947200">
            <a:off x="2545560" y="3942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656" name="Music"/>
          <p:cNvSpPr/>
          <p:nvPr/>
        </p:nvSpPr>
        <p:spPr>
          <a:xfrm>
            <a:off x="7885080" y="5084640"/>
            <a:ext cx="720720" cy="648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3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66"/>
                </a:solidFill>
                <a:latin typeface="Arial"/>
              </a:rPr>
              <a:t>Sir Edmund Hillarys extreme qualities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7800">
            <a:off x="7020000" y="2349360"/>
            <a:ext cx="1398600" cy="14227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585400">
            <a:off x="7524360" y="3644640"/>
            <a:ext cx="1058760" cy="1396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5280" y="765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27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386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51280" y="765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00000" y="170028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was determined in what he d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2637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Sir Edmund Hillary loved a physical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3716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conquered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869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He was determined and he pushed ha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4720" y="177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2781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loved  to take huge risks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 rot="20291400">
            <a:off x="6659280" y="980640"/>
            <a:ext cx="1089000" cy="1349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780000" y="2924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3860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 was physically fit and strong mind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378936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4869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8472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9721800" cy="6875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627280" y="76500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My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69228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292720" y="54936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Sir Edmund Hillary’s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5280" y="14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00"/>
                </a:solidFill>
                <a:latin typeface="Bradley Hand ITC"/>
                <a:ea typeface="Arial"/>
              </a:rPr>
              <a:t>Simil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80000" y="1700280"/>
            <a:ext cx="158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  <a:ea typeface="Arial"/>
              </a:rPr>
              <a:t>We love a physical challenge</a:t>
            </a:r>
            <a:r>
              <a:rPr b="0" lang="en-NZ" sz="20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4000" y="2565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take risk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924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  <a:ea typeface="Arial"/>
              </a:rPr>
              <a:t>We are determined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198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6360" y="292428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He was the first man to conquer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4560" y="39337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544500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060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19640" y="3357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are physically fit and strong mi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50920" y="59500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r Edmund Hillary and I are the same in many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1403280" y="692280"/>
            <a:ext cx="82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1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6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74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24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16280" y="47628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learning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rot="1485600">
            <a:off x="4886280" y="197640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0920" y="1700280"/>
            <a:ext cx="423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Bradley Hand ITC"/>
                <a:ea typeface="Arial"/>
              </a:rPr>
              <a:t>Improve my reading comprehension to increase my stanine score from four to si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1152720" cy="10875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236000" y="3141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84360" y="5516640"/>
            <a:ext cx="8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1680" y="53820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Exp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836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Bradley Hand ITC"/>
                <a:ea typeface="Arial"/>
              </a:rPr>
              <a:t>Four camps to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47640" y="580536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5300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 to   identify key word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522936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Learn to skim and scan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03640" y="537372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51640" y="3284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03640" y="1628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f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3068640"/>
            <a:ext cx="16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telling in short sentences using key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1640" y="1773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confere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96000" y="83664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692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 mad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1:23:28Z</dcterms:created>
  <dc:creator>Ministry of Education</dc:creator>
  <dc:description/>
  <dc:language>en-US</dc:language>
  <cp:lastModifiedBy>Student2</cp:lastModifiedBy>
  <dcterms:modified xsi:type="dcterms:W3CDTF">2008-04-15T00:47:30Z</dcterms:modified>
  <cp:revision>1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