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13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1AA5F-B319-48E7-B774-13867A1B069D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My name is gr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ECC20-1159-4865-8AC9-A8707D439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B6345-B33B-4EF3-B4C2-04931389D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546F9-2F64-49E9-A4EC-1617A5224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4C191-7598-4F91-A28D-F2A8CC796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C012F4-E0D2-4EC6-8C6F-D7DF9F12D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AF5922-137F-4922-95D0-16838B57D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14100C-62C3-473D-9D31-02A7E18EE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7590E3-A3B9-4B07-80DC-C43A61F7B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9CAA34-34BA-486A-ACA2-3ABABCC3F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0BAF03-1E58-46DD-BE10-D8FBF97C6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491D19-12DA-479C-B6D0-641D2D44A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95B86-D761-464D-BBD7-64D1B8941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E44FDD-6BAA-4E2F-B79E-94C3FDD51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EEDD1F-5730-4E20-A4F6-EE4353B09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E1811C-737A-437B-92EA-85D37E865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8858A7-45B9-40D3-9829-571E0E9CC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A25D0A-4662-4ADD-9F35-FF5951CFA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0F28C0-DA2E-46CF-8317-D42FA2FCA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E94480-86C7-49E4-82A1-506EDA0CD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4D19B4-A0EC-421B-ADCD-DA53F0722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D1C288-8CAC-49EB-8315-7D489467A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AF6A0E-9665-48EB-9575-67308E19A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0A042-D0D2-4923-A93D-0CCB56FA9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2CF4E0-8F72-4A48-8220-A38B38529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9FCF19-6D3D-4BE9-9935-8B15DD610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2AD1E0-A7B7-4DF9-AC25-217A4B907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E07087-2F42-4FA3-AC45-F56B8F5FB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912884-EDA3-4230-8883-7C4AF9BFB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121E4C-30B4-4F68-90A0-0871E8834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C2B637-43F4-4BD0-84F6-31F5DF9E8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AE68CA-CE64-4F3E-A51D-B10FE2964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20218B-587D-4807-A255-7BC7A6264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7B1804-B082-4D5A-95DE-B6C25FCED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2B830-8CC0-463C-A2CF-746ACB7A6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80BCF2-1757-420C-9367-1218AD687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D65609-37F0-48D7-821A-72F2DE8A1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1FCC96-AFD3-4024-8FDB-41E5CEB47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91791D-FE5F-4C27-B145-1D53DB0AD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C3513F-9460-4E27-9CCA-97F9FF4DB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807B01-F5E6-4BDA-9C36-6B37AB6FC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D3D004-AD86-48DB-ABD0-835677D73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F96009-474D-4E29-8A82-152637EA2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A276B4-B999-4FD8-A56F-5F70E16F4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8BE99C-FD04-463C-A7DC-2E20CF372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E1536-FF90-4D9A-995D-4DBF10034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935333-B190-4C60-BDE6-018D7948D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C2071F-209A-4945-BD85-6A8D4B635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D50E57-41F1-42F4-9753-33D2DCBF7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979F34-9C9B-47D7-BC4E-0D3342D9D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1E3B36-92DB-42AA-A512-9251F961C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5DD2C5-244F-4F02-89B9-0813BE8B3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FEEC39-307A-40EF-B87D-693EE67D9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43731C-914F-49A7-93F4-54510D38D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4DD877-B3CD-4669-A03C-46DABAECD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2AA6AD-A37F-4C62-AC41-D93F64B58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5C6E9-415E-4736-9D0D-BFC7EF1B0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7A3409-6C32-4378-A679-A003F15DD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EE186A-9A22-45B7-9F1D-C4611CC8A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C28E6C-4543-4B66-9443-445BCC424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AA7947-0842-4747-B660-EB8CFB9D4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A4C0C0-741C-44F0-987C-C8DB91EB5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B22EF1-3C1E-4FF8-9607-02CF00AE7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842B5A-2077-4BA0-9ECA-DB2255E05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282078-DB78-40FA-AE1D-FE7D33D51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1E6AE6-27B7-4050-A9BE-7436D13B2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6E2937-4896-4269-A662-2F3B0625B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F96DF-E2D3-402D-A33B-C88680CC2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DD55B6-D4BF-4234-A37D-DBBF0C618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760DC1-25EA-4D29-8C71-7B833046C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1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1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70E3AB-A7A3-4E30-AAD8-3E90A9C36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2F9C3-A363-433F-B718-38A650DAD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BBC55-93B4-460E-BCB5-B3FA186ED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FEF39-7AD6-408E-A28A-EF0ABC1E5A15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1B72D-B272-43F5-B45F-D1358E8E678B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22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123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5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126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129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32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5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36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37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9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40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2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143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5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146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8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149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1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152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4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155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7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158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0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161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3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164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6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167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9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2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173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4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5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176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8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179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0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1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182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3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4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185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6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7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188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0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191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2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3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194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5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6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197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8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99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01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202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3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4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205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6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7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208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9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0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3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6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217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8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9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220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2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223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5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226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7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8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229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0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1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232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34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0F5CE-7425-45E0-B349-B5DA68EE75C3}" type="slidenum">
              <a:rPr b="0" lang="en-GB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298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299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01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302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303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304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6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307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308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9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0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311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2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3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314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5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6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317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8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9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320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1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2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323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4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5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326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7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8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329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0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31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332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3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34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335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6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37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338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9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40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341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2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43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344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5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46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347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8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49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350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1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52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353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4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55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356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7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58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359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0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1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362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3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4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365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6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7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368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9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70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1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72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373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4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75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376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7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78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379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0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81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382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3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84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385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6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87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388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9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90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391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2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93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394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5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96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397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8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99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400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1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02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403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4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405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406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407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8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9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0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1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2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3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14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15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416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57EA2-5C58-47CD-BFCD-CB1A13B7C96E}" type="slidenum">
              <a:rPr b="0" lang="en-GB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 type="dt" idx="13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 type="ftr" idx="14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 type="sldNum" idx="15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35553-DCBB-4F3A-99ED-ECF925EC2BE1}" type="slidenum">
              <a:rPr b="0" lang="en-GB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9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480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89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490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491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2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4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97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498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0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1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3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4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5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506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507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09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510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511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12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513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5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6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7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8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9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0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21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B415C-30D1-4195-92A7-2153D2718E10}" type="slidenum">
              <a:rPr b="0" lang="en-GB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3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564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67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568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573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574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77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578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83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google.co.nz/imgres?imgurl=http://img.timeinc.net/Life/lifebooks/hillary/images/hillary.jpg&amp;imgrefurl=http://johnling.wordpress.com/&amp;h=340&amp;w=333&amp;sz=14&amp;hl=en&amp;start=6&amp;um=1&amp;tbnid=7IHzYBYya1VjhM:&amp;tbnh=119&amp;tbnw=117&amp;prev=/images%3Fq%3Dsir%2Bedmund%2Bhillary%26um%3D1%26hl%3Den%26sa%3DN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images.google.co.nz/imgres?imgurl=http://www.bio.davidson.edu/people/macampbell/Juniata/Hillary.jpg&amp;imgrefurl=http://www.bio.davidson.edu/people/macampbell/Juniata/trail.html&amp;h=400&amp;w=303&amp;sz=39&amp;hl=en&amp;start=4&amp;um=1&amp;tbnid=zkZhVJB1wBf-cM:&amp;tbnh=124&amp;tbnw=94&amp;prev=/images%3Fq%3Dsir%2Bedmund%2Bhillary%26um%3D1%26hl%3Den%26sa%3DN" TargetMode="External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hyperlink" Target="http://images.google.co.nz/imgres?imgurl=http://cache.eb.com/eb/image%3Fid%3D11031%26rendTypeId%3D4&amp;imgrefurl=http://www.student.britannica.com/eb/art-11603/Sir-Edmund-Hillary-1956&amp;h=300&amp;w=234&amp;sz=20&amp;hl=en&amp;start=9&amp;tbnid=2lPRGa_tzp5rOM:&amp;tbnh=116&amp;tbnw=90&amp;prev=/images%3Fq%3Dsir%2Bedmund%2Bhilary%26gbv%3D2%26hl%3Den%26sa%3DG" TargetMode="External"/><Relationship Id="rId3" Type="http://schemas.openxmlformats.org/officeDocument/2006/relationships/image" Target="../media/image8.jpe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684360" y="183024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630" name="" descr=""/>
          <p:cNvPicPr/>
          <p:nvPr/>
        </p:nvPicPr>
        <p:blipFill>
          <a:blip r:embed="rId1"/>
          <a:stretch/>
        </p:blipFill>
        <p:spPr>
          <a:xfrm>
            <a:off x="-326880" y="0"/>
            <a:ext cx="9470880" cy="7104240"/>
          </a:xfrm>
          <a:prstGeom prst="rect">
            <a:avLst/>
          </a:prstGeom>
          <a:ln w="0">
            <a:noFill/>
          </a:ln>
        </p:spPr>
      </p:pic>
      <p:sp>
        <p:nvSpPr>
          <p:cNvPr id="631" name=""/>
          <p:cNvSpPr/>
          <p:nvPr/>
        </p:nvSpPr>
        <p:spPr>
          <a:xfrm>
            <a:off x="755640" y="2133720"/>
            <a:ext cx="705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800" spc="-1" strike="noStrike">
                <a:solidFill>
                  <a:srgbClr val="ffff00"/>
                </a:solidFill>
                <a:latin typeface="Gungsuh"/>
                <a:ea typeface="Arial"/>
              </a:rPr>
              <a:t>Is Sir Edmund Hillary and I the same and different</a:t>
            </a:r>
            <a:r>
              <a:rPr b="0" i="1" lang="en-NZ" sz="2400" spc="-1" strike="noStrike">
                <a:solidFill>
                  <a:srgbClr val="ff0000"/>
                </a:solidFill>
                <a:latin typeface="Gungsuh"/>
                <a:ea typeface="Arial"/>
              </a:rPr>
              <a:t> </a:t>
            </a:r>
            <a:r>
              <a:rPr b="0" i="1" lang="en-NZ" sz="2400" spc="-1" strike="noStrike">
                <a:solidFill>
                  <a:srgbClr val="ffffff"/>
                </a:solidFill>
                <a:latin typeface="Gungsuh"/>
                <a:ea typeface="Arial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539640" y="4941720"/>
            <a:ext cx="65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400" spc="-1" strike="noStrike">
                <a:solidFill>
                  <a:srgbClr val="33cc33"/>
                </a:solidFill>
                <a:latin typeface="Arial Rounded MT Bold"/>
                <a:ea typeface="Arial"/>
              </a:rPr>
              <a:t>An  analysis of  our Sir Edmund Hilary unit</a:t>
            </a:r>
            <a:r>
              <a:rPr b="1" i="1" lang="en-NZ" sz="2400" spc="-1" strike="noStrike">
                <a:solidFill>
                  <a:srgbClr val="ffff00"/>
                </a:solidFill>
                <a:latin typeface="Arial Rounded MT Bold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750"/>
                            </p:stCondLst>
                            <p:childTnLst>
                              <p:par>
                                <p:cTn id="1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" dur="500"/>
                                        <p:tgtEl>
                                          <p:spTgt spid="6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d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NZ" sz="4000" spc="-1" strike="noStrike">
                <a:solidFill>
                  <a:srgbClr val="ffff00"/>
                </a:solidFill>
                <a:latin typeface="Gungsuh"/>
              </a:rPr>
              <a:t>my qualitie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4" name=""/>
          <p:cNvSpPr/>
          <p:nvPr/>
        </p:nvSpPr>
        <p:spPr>
          <a:xfrm>
            <a:off x="250920" y="2492280"/>
            <a:ext cx="165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7236000" y="1268280"/>
            <a:ext cx="1295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0" y="1125360"/>
            <a:ext cx="395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96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0" y="1700280"/>
            <a:ext cx="468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96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539640" y="2637000"/>
            <a:ext cx="374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66ff66"/>
                </a:solidFill>
                <a:latin typeface="Arial Rounded MT Bold"/>
                <a:ea typeface="Arial"/>
              </a:rPr>
              <a:t>A great team player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611280" y="2060640"/>
            <a:ext cx="4464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0" y="2565360"/>
            <a:ext cx="50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96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684360" y="4292640"/>
            <a:ext cx="374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539640" y="3500280"/>
            <a:ext cx="374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ffffff"/>
                </a:solidFill>
                <a:latin typeface="Arial"/>
                <a:ea typeface="Arial"/>
              </a:rPr>
              <a:t>I take charge</a:t>
            </a:r>
            <a:r>
              <a:rPr b="0" lang="en-NZ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0" y="3284640"/>
            <a:ext cx="431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96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539640" y="4221000"/>
            <a:ext cx="2233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6ff66"/>
                </a:solidFill>
                <a:latin typeface="Arial Rounded MT Bold"/>
                <a:ea typeface="Arial"/>
              </a:rPr>
              <a:t>I am hard working and determined</a:t>
            </a:r>
            <a:r>
              <a:rPr b="1" lang="en-GB" sz="1800" spc="-1" strike="noStrike">
                <a:solidFill>
                  <a:srgbClr val="66ff66"/>
                </a:solidFill>
                <a:latin typeface="Arial Rounded MT Bold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5148360" y="1052640"/>
            <a:ext cx="720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96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5651640" y="1916280"/>
            <a:ext cx="2519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ffff00"/>
                </a:solidFill>
                <a:latin typeface="Arial Rounded MT Bold"/>
                <a:ea typeface="Arial"/>
              </a:rPr>
              <a:t>I love a physical challenge</a:t>
            </a:r>
            <a:r>
              <a:rPr b="0" lang="en-NZ" sz="1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5148360" y="2133720"/>
            <a:ext cx="503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96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5148360" y="3357720"/>
            <a:ext cx="57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96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5651640" y="4292640"/>
            <a:ext cx="180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b800"/>
                </a:solidFill>
                <a:latin typeface="Arial"/>
                <a:ea typeface="Arial"/>
              </a:rPr>
              <a:t>I love to take big risk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611280" y="2133720"/>
            <a:ext cx="30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ffff"/>
                </a:solidFill>
                <a:latin typeface="Arial"/>
                <a:ea typeface="Arial"/>
              </a:rPr>
              <a:t>I am persistent</a:t>
            </a:r>
            <a:r>
              <a:rPr b="0" lang="en-NZ" sz="2000" spc="-1" strike="noStrike">
                <a:solidFill>
                  <a:srgbClr val="ff33cc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5148360" y="4508640"/>
            <a:ext cx="431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5580000" y="5445000"/>
            <a:ext cx="273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I'm physically fi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5651640" y="3141720"/>
            <a:ext cx="266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ffff"/>
                </a:solidFill>
                <a:latin typeface="Arial"/>
                <a:ea typeface="Arial"/>
              </a:rPr>
              <a:t>I have lots of courage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4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1461960" cy="1949400"/>
          </a:xfrm>
          <a:prstGeom prst="rect">
            <a:avLst/>
          </a:prstGeom>
          <a:ln w="0">
            <a:noFill/>
          </a:ln>
        </p:spPr>
      </p:pic>
      <p:pic>
        <p:nvPicPr>
          <p:cNvPr id="655" name="" descr=""/>
          <p:cNvPicPr/>
          <p:nvPr/>
        </p:nvPicPr>
        <p:blipFill>
          <a:blip r:embed="rId2"/>
          <a:stretch/>
        </p:blipFill>
        <p:spPr>
          <a:xfrm rot="5947200">
            <a:off x="2545560" y="3942360"/>
            <a:ext cx="2376360" cy="1781280"/>
          </a:xfrm>
          <a:prstGeom prst="rect">
            <a:avLst/>
          </a:prstGeom>
          <a:ln w="0">
            <a:noFill/>
          </a:ln>
        </p:spPr>
      </p:pic>
      <p:sp>
        <p:nvSpPr>
          <p:cNvPr id="656" name="Music"/>
          <p:cNvSpPr/>
          <p:nvPr/>
        </p:nvSpPr>
        <p:spPr>
          <a:xfrm>
            <a:off x="7885080" y="5084640"/>
            <a:ext cx="720720" cy="648000"/>
          </a:xfrm>
          <a:prstGeom prst="pi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385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" dur="385" fill="hold"/>
                                        <p:tgtEl>
                                          <p:spTgt spid="63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5" dur="385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7" dur="385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000"/>
                            </p:stCondLst>
                            <p:childTnLst>
                              <p:par>
                                <p:cTn id="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500"/>
                            </p:stCondLst>
                            <p:childTnLst>
                              <p:par>
                                <p:cTn id="3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9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2500"/>
                            </p:stCondLst>
                            <p:childTnLst>
                              <p:par>
                                <p:cTn id="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10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3500"/>
                            </p:stCondLst>
                            <p:childTnLst>
                              <p:par>
                                <p:cTn id="4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" dur="10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4500"/>
                            </p:stCondLst>
                            <p:childTnLst>
                              <p:par>
                                <p:cTn id="4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1000"/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500"/>
                            </p:stCondLst>
                            <p:childTnLst>
                              <p:par>
                                <p:cTn id="5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" dur="500"/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" dur="500"/>
                                        <p:tgtEl>
                                          <p:spTgt spid="6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" dur="500"/>
                                        <p:tgtEl>
                                          <p:spTgt spid="6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2500"/>
                            </p:stCondLst>
                            <p:childTnLst>
                              <p:par>
                                <p:cTn id="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6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3500"/>
                            </p:stCondLst>
                            <p:childTnLst>
                              <p:par>
                                <p:cTn id="6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" dur="10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4500"/>
                            </p:stCondLst>
                            <p:childTnLst>
                              <p:par>
                                <p:cTn id="69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7300"/>
                            </p:stCondLst>
                            <p:childTnLst>
                              <p:par>
                                <p:cTn id="7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7" dur="20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9300"/>
                            </p:stCondLst>
                            <p:childTnLst>
                              <p:par>
                                <p:cTn id="7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1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66ff66"/>
                </a:solidFill>
                <a:latin typeface="Arial"/>
              </a:rPr>
              <a:t>Sir Edmund Hillarys extreme qualities</a:t>
            </a:r>
            <a:r>
              <a:rPr b="0" lang="en-NZ" sz="40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65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 rot="787800">
            <a:off x="7020000" y="2349360"/>
            <a:ext cx="1398600" cy="1422720"/>
          </a:xfrm>
          <a:prstGeom prst="rect">
            <a:avLst/>
          </a:prstGeom>
          <a:ln w="0">
            <a:noFill/>
          </a:ln>
        </p:spPr>
      </p:pic>
      <p:pic>
        <p:nvPicPr>
          <p:cNvPr id="659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 rot="20585400">
            <a:off x="7524360" y="3644640"/>
            <a:ext cx="1058760" cy="1396800"/>
          </a:xfrm>
          <a:prstGeom prst="rect">
            <a:avLst/>
          </a:prstGeom>
          <a:ln w="0">
            <a:noFill/>
          </a:ln>
        </p:spPr>
      </p:pic>
      <p:sp>
        <p:nvSpPr>
          <p:cNvPr id="660" name=""/>
          <p:cNvSpPr/>
          <p:nvPr/>
        </p:nvSpPr>
        <p:spPr>
          <a:xfrm>
            <a:off x="395280" y="765000"/>
            <a:ext cx="863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96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468360" y="1700280"/>
            <a:ext cx="79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96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395280" y="2781360"/>
            <a:ext cx="936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96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395280" y="3860640"/>
            <a:ext cx="647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96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3851280" y="765000"/>
            <a:ext cx="79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96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3851280" y="1700280"/>
            <a:ext cx="79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96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900000" y="1700280"/>
            <a:ext cx="2159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ff00"/>
                </a:solidFill>
                <a:latin typeface="Arial"/>
                <a:ea typeface="Arial"/>
              </a:rPr>
              <a:t>He was determined in what he d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826920" y="2637000"/>
            <a:ext cx="2376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ffff"/>
                </a:solidFill>
                <a:latin typeface="Arial"/>
                <a:ea typeface="Arial"/>
              </a:rPr>
              <a:t>Sir Edmund Hillary loved a physical challen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826920" y="3716280"/>
            <a:ext cx="1800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ff00"/>
                </a:solidFill>
                <a:latin typeface="Arial"/>
                <a:ea typeface="Arial"/>
              </a:rPr>
              <a:t>He conquered the highest mountai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755640" y="4869000"/>
            <a:ext cx="2016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ffff"/>
                </a:solidFill>
                <a:latin typeface="Arial"/>
                <a:ea typeface="Arial"/>
              </a:rPr>
              <a:t>He was determined and he pushed harder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4284720" y="1773360"/>
            <a:ext cx="20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66"/>
                </a:solidFill>
                <a:latin typeface="Arial"/>
                <a:ea typeface="Arial"/>
              </a:rPr>
              <a:t>He was fearl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4356000" y="2781360"/>
            <a:ext cx="201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cc00"/>
                </a:solidFill>
                <a:latin typeface="Arial"/>
                <a:ea typeface="Arial"/>
              </a:rPr>
              <a:t>He loved  to take huge risks</a:t>
            </a:r>
            <a:r>
              <a:rPr b="0" lang="en-NZ" sz="2000" spc="-1" strike="noStrike">
                <a:solidFill>
                  <a:srgbClr val="ff33cc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2" name="" descr=""/>
          <p:cNvPicPr/>
          <p:nvPr/>
        </p:nvPicPr>
        <p:blipFill>
          <a:blip r:embed="rId5"/>
          <a:stretch/>
        </p:blipFill>
        <p:spPr>
          <a:xfrm rot="20291400">
            <a:off x="6659280" y="980640"/>
            <a:ext cx="1089000" cy="1349280"/>
          </a:xfrm>
          <a:prstGeom prst="rect">
            <a:avLst/>
          </a:prstGeom>
          <a:ln w="0">
            <a:noFill/>
          </a:ln>
        </p:spPr>
      </p:pic>
      <p:sp>
        <p:nvSpPr>
          <p:cNvPr id="673" name=""/>
          <p:cNvSpPr/>
          <p:nvPr/>
        </p:nvSpPr>
        <p:spPr>
          <a:xfrm>
            <a:off x="3780000" y="2924280"/>
            <a:ext cx="79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96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4284720" y="3860640"/>
            <a:ext cx="259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He was physically fit and strong minded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3780000" y="3789360"/>
            <a:ext cx="431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96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4356000" y="4869000"/>
            <a:ext cx="2592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4284720" y="4797360"/>
            <a:ext cx="259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cc00"/>
                </a:solidFill>
                <a:latin typeface="Arial"/>
                <a:ea typeface="Arial"/>
              </a:rPr>
              <a:t>He is known around the world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8" dur="500"/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9" dur="500"/>
                                        <p:tgtEl>
                                          <p:spTgt spid="6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" dur="500"/>
                                        <p:tgtEl>
                                          <p:spTgt spid="6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8500"/>
                            </p:stCondLst>
                            <p:childTnLst>
                              <p:par>
                                <p:cTn id="92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0500"/>
                            </p:stCondLst>
                            <p:childTnLst>
                              <p:par>
                                <p:cTn id="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2000"/>
                                        <p:tgtEl>
                                          <p:spTgt spid="6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2500"/>
                            </p:stCondLst>
                            <p:childTnLst>
                              <p:par>
                                <p:cTn id="10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2500"/>
                            </p:stCondLst>
                            <p:childTnLst>
                              <p:par>
                                <p:cTn id="10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9" dur="2000"/>
                                        <p:tgtEl>
                                          <p:spTgt spid="6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4500"/>
                            </p:stCondLst>
                            <p:childTnLst>
                              <p:par>
                                <p:cTn id="111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6500"/>
                            </p:stCondLst>
                            <p:childTnLst>
                              <p:par>
                                <p:cTn id="117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8500"/>
                            </p:stCondLst>
                            <p:childTnLst>
                              <p:par>
                                <p:cTn id="1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2000"/>
                                        <p:tgtEl>
                                          <p:spTgt spid="6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20500"/>
                            </p:stCondLst>
                            <p:childTnLst>
                              <p:par>
                                <p:cTn id="12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0" dur="20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22500"/>
                            </p:stCondLst>
                            <p:childTnLst>
                              <p:par>
                                <p:cTn id="1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23000"/>
                            </p:stCondLst>
                            <p:childTnLst>
                              <p:par>
                                <p:cTn id="136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8" dur="20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25000"/>
                            </p:stCondLst>
                            <p:childTnLst>
                              <p:par>
                                <p:cTn id="14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2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679" name="" descr=""/>
          <p:cNvPicPr/>
          <p:nvPr/>
        </p:nvPicPr>
        <p:blipFill>
          <a:blip r:embed="rId1"/>
          <a:stretch/>
        </p:blipFill>
        <p:spPr>
          <a:xfrm>
            <a:off x="-252360" y="-17640"/>
            <a:ext cx="9721800" cy="6875640"/>
          </a:xfrm>
          <a:prstGeom prst="rect">
            <a:avLst/>
          </a:prstGeom>
          <a:ln w="0">
            <a:noFill/>
          </a:ln>
        </p:spPr>
      </p:pic>
      <p:sp>
        <p:nvSpPr>
          <p:cNvPr id="680" name=""/>
          <p:cNvSpPr/>
          <p:nvPr/>
        </p:nvSpPr>
        <p:spPr>
          <a:xfrm>
            <a:off x="2627280" y="765000"/>
            <a:ext cx="1440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000" spc="-1" strike="noStrike" u="sng">
                <a:solidFill>
                  <a:srgbClr val="000000"/>
                </a:solidFill>
                <a:uFillTx/>
                <a:latin typeface="Bradley Hand ITC"/>
                <a:ea typeface="Arial"/>
              </a:rPr>
              <a:t>My differenc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1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659640" y="692280"/>
            <a:ext cx="857160" cy="1104840"/>
          </a:xfrm>
          <a:prstGeom prst="rect">
            <a:avLst/>
          </a:prstGeom>
          <a:ln w="0">
            <a:noFill/>
          </a:ln>
        </p:spPr>
      </p:pic>
      <p:sp>
        <p:nvSpPr>
          <p:cNvPr id="682" name=""/>
          <p:cNvSpPr/>
          <p:nvPr/>
        </p:nvSpPr>
        <p:spPr>
          <a:xfrm>
            <a:off x="5292720" y="549360"/>
            <a:ext cx="15112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000" spc="-1" strike="noStrike" u="sng">
                <a:solidFill>
                  <a:srgbClr val="000000"/>
                </a:solidFill>
                <a:uFillTx/>
                <a:latin typeface="Bradley Hand ITC"/>
                <a:ea typeface="Arial"/>
              </a:rPr>
              <a:t>Sir Edmund Hillary’s differenc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3635280" y="1413000"/>
            <a:ext cx="15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000" spc="-1" strike="noStrike">
                <a:solidFill>
                  <a:srgbClr val="ffff00"/>
                </a:solidFill>
                <a:latin typeface="Bradley Hand ITC"/>
                <a:ea typeface="Arial"/>
              </a:rPr>
              <a:t>Similariti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3780000" y="1700280"/>
            <a:ext cx="158400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33cc33"/>
                </a:solidFill>
                <a:latin typeface="Arial"/>
                <a:ea typeface="Arial"/>
              </a:rPr>
              <a:t>We love a physical challenge</a:t>
            </a:r>
            <a:r>
              <a:rPr b="0" lang="en-NZ" sz="2000" spc="-1" strike="noStrike">
                <a:solidFill>
                  <a:srgbClr val="33cc33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3564000" y="2565360"/>
            <a:ext cx="180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ffffff"/>
                </a:solidFill>
                <a:latin typeface="Arial"/>
                <a:ea typeface="Arial"/>
              </a:rPr>
              <a:t>We take risks</a:t>
            </a:r>
            <a:r>
              <a:rPr b="0" lang="en-NZ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3276720" y="2924280"/>
            <a:ext cx="208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  <a:ea typeface="Arial"/>
              </a:rPr>
              <a:t>We are determined</a:t>
            </a:r>
            <a:r>
              <a:rPr b="0" lang="en-NZ" sz="1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6012000" y="1989000"/>
            <a:ext cx="259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cc00"/>
                </a:solidFill>
                <a:latin typeface="Arial"/>
                <a:ea typeface="Arial"/>
              </a:rPr>
              <a:t>He is known around the world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6156360" y="2924280"/>
            <a:ext cx="2771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  <a:ea typeface="Arial"/>
              </a:rPr>
              <a:t>He was the first man to conquer the highest mountai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6154560" y="3933720"/>
            <a:ext cx="199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66ff66"/>
                </a:solidFill>
                <a:latin typeface="Arial"/>
                <a:ea typeface="Arial"/>
              </a:rPr>
              <a:t>He was fearl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395280" y="5445000"/>
            <a:ext cx="69850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900000" y="2060640"/>
            <a:ext cx="2448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3419640" y="3357720"/>
            <a:ext cx="165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ffff"/>
                </a:solidFill>
                <a:latin typeface="Arial"/>
                <a:ea typeface="Arial"/>
              </a:rPr>
              <a:t>We are physically fit and strong mind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2050920" y="5950080"/>
            <a:ext cx="583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  <a:ea typeface="Arial"/>
              </a:rPr>
              <a:t>Sir Edmund Hillary and I are the same in many way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4" name="" descr=""/>
          <p:cNvPicPr/>
          <p:nvPr/>
        </p:nvPicPr>
        <p:blipFill>
          <a:blip r:embed="rId4"/>
          <a:stretch/>
        </p:blipFill>
        <p:spPr>
          <a:xfrm>
            <a:off x="1403280" y="692280"/>
            <a:ext cx="82548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500"/>
                            </p:stCondLst>
                            <p:childTnLst>
                              <p:par>
                                <p:cTn id="151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3" dur="20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2500"/>
                            </p:stCondLst>
                            <p:childTnLst>
                              <p:par>
                                <p:cTn id="1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3000"/>
                            </p:stCondLst>
                            <p:childTnLst>
                              <p:par>
                                <p:cTn id="15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1" dur="20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5000"/>
                            </p:stCondLst>
                            <p:childTnLst>
                              <p:par>
                                <p:cTn id="16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7600"/>
                            </p:stCondLst>
                            <p:childTnLst>
                              <p:par>
                                <p:cTn id="17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6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8100"/>
                            </p:stCondLst>
                            <p:childTnLst>
                              <p:par>
                                <p:cTn id="1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6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8600"/>
                            </p:stCondLst>
                            <p:childTnLst>
                              <p:par>
                                <p:cTn id="17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9600"/>
                            </p:stCondLst>
                            <p:childTnLst>
                              <p:par>
                                <p:cTn id="18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0100"/>
                            </p:stCondLst>
                            <p:childTnLst>
                              <p:par>
                                <p:cTn id="19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2" dur="80"/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-3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3" dur="80"/>
                                        <p:tgtEl>
                                          <p:spTgt spid="6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-3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4" dur="80"/>
                                        <p:tgtEl>
                                          <p:spTgt spid="6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10740"/>
                            </p:stCondLst>
                            <p:childTnLst>
                              <p:par>
                                <p:cTn id="19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8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11240"/>
                            </p:stCondLst>
                            <p:childTnLst>
                              <p:par>
                                <p:cTn id="200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5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696" name=""/>
          <p:cNvSpPr/>
          <p:nvPr/>
        </p:nvSpPr>
        <p:spPr>
          <a:xfrm>
            <a:off x="116280" y="476280"/>
            <a:ext cx="487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000000"/>
                </a:solidFill>
                <a:latin typeface="Blackadder ITC"/>
              </a:rPr>
              <a:t>My learning goa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7" name="" descr=""/>
          <p:cNvPicPr/>
          <p:nvPr/>
        </p:nvPicPr>
        <p:blipFill>
          <a:blip r:embed="rId2"/>
          <a:stretch/>
        </p:blipFill>
        <p:spPr>
          <a:xfrm rot="1485600">
            <a:off x="4886280" y="1976400"/>
            <a:ext cx="2160720" cy="2879640"/>
          </a:xfrm>
          <a:prstGeom prst="rect">
            <a:avLst/>
          </a:prstGeom>
          <a:ln w="0">
            <a:noFill/>
          </a:ln>
        </p:spPr>
      </p:pic>
      <p:sp>
        <p:nvSpPr>
          <p:cNvPr id="698" name=""/>
          <p:cNvSpPr/>
          <p:nvPr/>
        </p:nvSpPr>
        <p:spPr>
          <a:xfrm>
            <a:off x="250920" y="1700280"/>
            <a:ext cx="42321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Bradley Hand ITC"/>
                <a:ea typeface="Arial"/>
              </a:rPr>
              <a:t>Improve my reading comprehension to increase my stanine score from four to six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0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500"/>
                            </p:stCondLst>
                            <p:childTnLst>
                              <p:par>
                                <p:cTn id="21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9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2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7" dur="500"/>
                                        <p:tgtEl>
                                          <p:spTgt spid="6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700" name="" descr=""/>
          <p:cNvPicPr/>
          <p:nvPr/>
        </p:nvPicPr>
        <p:blipFill>
          <a:blip r:embed="rId2"/>
          <a:stretch/>
        </p:blipFill>
        <p:spPr>
          <a:xfrm>
            <a:off x="468360" y="5373720"/>
            <a:ext cx="1008000" cy="1008000"/>
          </a:xfrm>
          <a:prstGeom prst="rect">
            <a:avLst/>
          </a:prstGeom>
          <a:ln w="0">
            <a:noFill/>
          </a:ln>
        </p:spPr>
      </p:pic>
      <p:pic>
        <p:nvPicPr>
          <p:cNvPr id="701" name="" descr=""/>
          <p:cNvPicPr/>
          <p:nvPr/>
        </p:nvPicPr>
        <p:blipFill>
          <a:blip r:embed="rId3"/>
          <a:stretch/>
        </p:blipFill>
        <p:spPr>
          <a:xfrm>
            <a:off x="5364000" y="0"/>
            <a:ext cx="1152720" cy="1087560"/>
          </a:xfrm>
          <a:prstGeom prst="rect">
            <a:avLst/>
          </a:prstGeom>
          <a:ln w="0">
            <a:noFill/>
          </a:ln>
        </p:spPr>
      </p:pic>
      <p:pic>
        <p:nvPicPr>
          <p:cNvPr id="702" name="" descr=""/>
          <p:cNvPicPr/>
          <p:nvPr/>
        </p:nvPicPr>
        <p:blipFill>
          <a:blip r:embed="rId4"/>
          <a:stretch/>
        </p:blipFill>
        <p:spPr>
          <a:xfrm>
            <a:off x="4716360" y="1484280"/>
            <a:ext cx="1008000" cy="1008000"/>
          </a:xfrm>
          <a:prstGeom prst="rect">
            <a:avLst/>
          </a:prstGeom>
          <a:ln w="0">
            <a:noFill/>
          </a:ln>
        </p:spPr>
      </p:pic>
      <p:pic>
        <p:nvPicPr>
          <p:cNvPr id="703" name="" descr=""/>
          <p:cNvPicPr/>
          <p:nvPr/>
        </p:nvPicPr>
        <p:blipFill>
          <a:blip r:embed="rId5"/>
          <a:stretch/>
        </p:blipFill>
        <p:spPr>
          <a:xfrm>
            <a:off x="7236000" y="3141720"/>
            <a:ext cx="1008000" cy="1008000"/>
          </a:xfrm>
          <a:prstGeom prst="rect">
            <a:avLst/>
          </a:prstGeom>
          <a:ln w="0">
            <a:noFill/>
          </a:ln>
        </p:spPr>
      </p:pic>
      <p:pic>
        <p:nvPicPr>
          <p:cNvPr id="704" name="" descr=""/>
          <p:cNvPicPr/>
          <p:nvPr/>
        </p:nvPicPr>
        <p:blipFill>
          <a:blip r:embed="rId6"/>
          <a:stretch/>
        </p:blipFill>
        <p:spPr>
          <a:xfrm>
            <a:off x="4788000" y="5229360"/>
            <a:ext cx="1008000" cy="1008000"/>
          </a:xfrm>
          <a:prstGeom prst="rect">
            <a:avLst/>
          </a:prstGeom>
          <a:ln w="0">
            <a:noFill/>
          </a:ln>
        </p:spPr>
      </p:pic>
      <p:sp>
        <p:nvSpPr>
          <p:cNvPr id="705" name=""/>
          <p:cNvSpPr/>
          <p:nvPr/>
        </p:nvSpPr>
        <p:spPr>
          <a:xfrm>
            <a:off x="684360" y="5516640"/>
            <a:ext cx="812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33cc33"/>
                </a:solidFill>
                <a:latin typeface="Arial"/>
              </a:rPr>
              <a:t>camp on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751680" y="538200"/>
            <a:ext cx="4143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000000"/>
                </a:solidFill>
                <a:latin typeface="Blackadder ITC"/>
              </a:rPr>
              <a:t>My Expedi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468360" y="1557360"/>
            <a:ext cx="381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Bradley Hand ITC"/>
                <a:ea typeface="Arial"/>
              </a:rPr>
              <a:t>Four camps to succes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1547640" y="5805360"/>
            <a:ext cx="18003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1476360" y="5300640"/>
            <a:ext cx="201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Learn to   identify key words</a:t>
            </a:r>
            <a:r>
              <a:rPr b="0" lang="en-NZ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5867280" y="5229360"/>
            <a:ext cx="1729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  <a:ea typeface="Arial"/>
              </a:rPr>
              <a:t>Learn to skim and scan</a:t>
            </a:r>
            <a:r>
              <a:rPr b="1" lang="en-NZ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5003640" y="5373720"/>
            <a:ext cx="81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33cc33"/>
                </a:solidFill>
                <a:latin typeface="Arial"/>
              </a:rPr>
              <a:t>Camp tw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7451640" y="3284640"/>
            <a:ext cx="81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33cc33"/>
                </a:solidFill>
                <a:latin typeface="Arial"/>
              </a:rPr>
              <a:t>Camp thre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5003640" y="1628640"/>
            <a:ext cx="81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33cc33"/>
                </a:solidFill>
                <a:latin typeface="Arial"/>
              </a:rPr>
              <a:t>Camp fou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5580000" y="3068640"/>
            <a:ext cx="1656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  <a:ea typeface="Arial"/>
              </a:rPr>
              <a:t>Retelling in short sentences using key wor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5651640" y="1773360"/>
            <a:ext cx="280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  <a:ea typeface="Arial"/>
              </a:rPr>
              <a:t>Teacher conferencing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5796000" y="836640"/>
            <a:ext cx="2016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5867280" y="692280"/>
            <a:ext cx="187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I made i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4" dur="5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500"/>
                            </p:stCondLst>
                            <p:childTnLst>
                              <p:par>
                                <p:cTn id="23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8" dur="1000"/>
                                        <p:tgtEl>
                                          <p:spTgt spid="7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1500"/>
                            </p:stCondLst>
                            <p:childTnLst>
                              <p:par>
                                <p:cTn id="240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2000" fill="hold"/>
                                        <p:tgtEl>
                                          <p:spTgt spid="7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2000" fill="hold"/>
                                        <p:tgtEl>
                                          <p:spTgt spid="7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2000" fill="hold"/>
                                        <p:tgtEl>
                                          <p:spTgt spid="7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2000" fill="hold"/>
                                        <p:tgtEl>
                                          <p:spTgt spid="7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3500"/>
                            </p:stCondLst>
                            <p:childTnLst>
                              <p:par>
                                <p:cTn id="247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20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20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20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20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5500"/>
                            </p:stCondLst>
                            <p:childTnLst>
                              <p:par>
                                <p:cTn id="254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20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20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20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20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500"/>
                            </p:stCondLst>
                            <p:childTnLst>
                              <p:par>
                                <p:cTn id="261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20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20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20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20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2T21:23:28Z</dcterms:created>
  <dc:creator>Ministry of Education</dc:creator>
  <dc:description/>
  <dc:language>en-US</dc:language>
  <cp:lastModifiedBy>Student2</cp:lastModifiedBy>
  <dcterms:modified xsi:type="dcterms:W3CDTF">2008-04-15T00:47:30Z</dcterms:modified>
  <cp:revision>15</cp:revision>
  <dc:subject/>
  <dc:title>Title slid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9</vt:r8>
  </property>
</Properties>
</file>