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51CC-F157-48C2-B4FC-618F0A782E72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My name is g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51F3-A485-40D3-B2EB-60A1E4BD0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FED7-CC43-4DFB-9BE3-713D1DBD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B872-8B52-40A0-A280-C83FFF922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A774-E0DE-4730-A8C9-608587D8F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A64E4-A4F7-4615-9CFA-0DE79B49B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09FFD2-8B62-4D3B-B888-CEA7F745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1687A-5C28-422A-9D48-EB4D6FDE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9D444-397C-48F0-B2C8-D966A8A4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367C6-C94E-484E-B6FA-7638C470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6C33D0-658F-4F74-92CB-88FB80FF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D32241-FFAD-47AD-A984-B04D71F3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5403-C3B7-42AF-8BA8-9E11FC41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37B60-9957-47A7-A958-29E5F912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D2E42-1E0F-4777-B5DB-D2B9DF00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8BEEA-3FBF-476A-A6F6-4C9BA3E3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3C827-F481-4A69-B32F-B2436A995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986EE-FAAE-4ED8-97D6-A71A9DACC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5F784-B409-446A-BD68-ADAA3BA06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6C1F5-3690-448D-9F4D-CC88014A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1D890-7945-40A5-8F49-8D0A0D4F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858B4-4112-4015-9D0B-3155C28A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58BA5-7020-4B82-BD2F-557B9ECC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E406-153E-469A-A4A9-AAB712AF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26947-F459-4243-8DC0-54CBD2B3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86C13-EEC6-4B21-AC13-2D7DB73A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8A058-663C-41E5-92D8-7CBD2DF6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CF5B6-3199-4D91-BCC6-379766B6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CCD77-F332-4518-A878-FC2FD716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F3556-574F-44A7-95D5-D77215E1A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EC4E4-F088-4CB5-B040-0A6A3092E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9BCEF-B5DC-474A-95CD-B63D7A387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2CF6B-CDD5-47CD-BD14-65D39858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64033-7FFE-48A7-B688-B5943B87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CCBF-5EDE-4FA3-9777-FC0361F0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20B95-53F4-435F-8446-03B6FC22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685A4-A67B-40B9-B9BF-0DF97E72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E0722-4B50-4F0E-98A4-2503DFB3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E9516-E02C-4FC6-98CF-63E6BFB0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4A72C-7070-4A57-8496-BD87678A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AD2DB-87B3-4E52-9485-C7907519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0854E-3767-4693-B88F-D79B1527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C4674-8CB1-4F54-BFA8-CB5F459B4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9C8B9-3D33-41D0-96A0-05C99FC73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D6ED2-A3B6-4A1F-9882-61680F774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4332-8D3E-43A0-A491-1A002349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85C20-82DD-4875-8496-52CBC34A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B528E-BE00-48AF-9262-7B04A985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B3AE0-A75A-4A8C-80A6-9AA17543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1D0FC-599D-4606-BA69-A615DDD1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686A4-73B7-45DF-81AC-13FFCC9D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4A150-6D4F-424F-98A3-50CC4E21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2B73F-7B03-4507-AABF-F40BF22C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17078-C28D-4D8C-AA3A-2B5BFDAF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CC72E-D9D2-4B0A-A587-D45A8DD4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F0A03-DCD3-453F-BE27-76A466F10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CBF4-E47D-4073-9B40-C5BCEF87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3C357-6E52-44F6-B962-0B869E5F8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DDE5D-DD44-4E9E-B2FD-19DF88FF3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0DC0A-6404-4CE7-A681-EAA03246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8ADCF-5102-444B-8F6C-9AF8AB38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35FC1-62F0-4786-96DD-E8FCF872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932B8-34C8-4A0C-8D18-3CB82491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18435-493B-4E4F-83F3-C089C16F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103C3-9A91-4DCF-9B03-C4EF3BA7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02C52-D52C-4833-B952-ECEF980F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7EF6A-6A8E-4877-9C29-3991304A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223D-D58E-4A29-8A38-AC7407BD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C89C6-C169-4A15-98C2-3C2291EC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6C743-189F-4D47-BFFE-35A0C0BAF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F1948-3FD8-49A9-9D1D-49B958C13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39F8-AB29-4E8A-8B08-C6A5F8C2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B5E4-EF20-41B8-86E1-5E9F8F75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9174-D38D-4C0A-A049-7F00D403E1F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55C8-E64A-48EF-B51C-8C3396BBAFD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2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2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2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2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3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6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2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1303-0713-4965-8823-6B7BEF561D52}" type="slidenum">
              <a:rPr b="0" lang="en-GB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9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9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0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0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2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2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3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3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4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4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4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5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5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5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5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6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6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6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7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7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7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7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8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8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8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9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9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9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0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0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0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0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0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1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ADE2-A858-4E27-8CCA-CE7AD4DDC744}" type="slidenum">
              <a:rPr b="0" lang="en-GB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BBA5-A10A-4374-B696-061551863F88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8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9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9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0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0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1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1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1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F448-2FD9-4339-9853-2C1ADCB2D22A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6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6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7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7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7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8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img.timeinc.net/Life/lifebooks/hillary/images/hillary.jpg&amp;imgrefurl=http://johnling.wordpress.com/&amp;h=340&amp;w=333&amp;sz=14&amp;hl=en&amp;start=6&amp;um=1&amp;tbnid=7IHzYBYya1VjhM:&amp;tbnh=119&amp;tbnw=117&amp;prev=/images%3Fq%3Dsir%2Bedmund%2Bhillary%26um%3D1%26hl%3Den%26sa%3DN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.nz/imgres?imgurl=http://www.bio.davidson.edu/people/macampbell/Juniata/Hillary.jpg&amp;imgrefurl=http://www.bio.davidson.edu/people/macampbell/Juniata/trail.html&amp;h=400&amp;w=303&amp;sz=39&amp;hl=en&amp;start=4&amp;um=1&amp;tbnid=zkZhVJB1wBf-cM:&amp;tbnh=124&amp;tbnw=94&amp;prev=/images%3Fq%3Dsir%2Bedmund%2Bhillary%26um%3D1%26hl%3Den%26sa%3DN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images.google.co.nz/imgres?imgurl=http://cache.eb.com/eb/image%3Fid%3D11031%26rendTypeId%3D4&amp;imgrefurl=http://www.student.britannica.com/eb/art-11603/Sir-Edmund-Hillary-1956&amp;h=300&amp;w=234&amp;sz=20&amp;hl=en&amp;start=9&amp;tbnid=2lPRGa_tzp5rOM:&amp;tbnh=116&amp;tbnw=90&amp;prev=/images%3Fq%3Dsir%2Bedmund%2Bhilary%26gbv%3D2%26hl%3Den%26sa%3DG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4360" y="183024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-326880" y="0"/>
            <a:ext cx="9470880" cy="710424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755640" y="213372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ffff00"/>
                </a:solidFill>
                <a:latin typeface="Gungsuh"/>
                <a:ea typeface="Arial"/>
              </a:rPr>
              <a:t>Is Sir Edmund Hillary and I the same and different</a:t>
            </a:r>
            <a:r>
              <a:rPr b="0" i="1" lang="en-NZ" sz="2400" spc="-1" strike="noStrike">
                <a:solidFill>
                  <a:srgbClr val="ff0000"/>
                </a:solidFill>
                <a:latin typeface="Gungsuh"/>
                <a:ea typeface="Arial"/>
              </a:rPr>
              <a:t> </a:t>
            </a:r>
            <a:r>
              <a:rPr b="0" i="1" lang="en-NZ" sz="2400" spc="-1" strike="noStrike">
                <a:solidFill>
                  <a:srgbClr val="ffffff"/>
                </a:solidFill>
                <a:latin typeface="Gungsuh"/>
                <a:ea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39640" y="4941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33cc33"/>
                </a:solidFill>
                <a:latin typeface="Arial Rounded MT Bold"/>
                <a:ea typeface="Arial"/>
              </a:rPr>
              <a:t>An  analysis of  our Sir Edmund Hilary unit</a:t>
            </a:r>
            <a:r>
              <a:rPr b="1" i="1" lang="en-NZ" sz="2400" spc="-1" strike="noStrike">
                <a:solidFill>
                  <a:srgbClr val="ffff00"/>
                </a:solidFill>
                <a:latin typeface="Arial Rounded MT Bold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75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NZ" sz="4000" spc="-1" strike="noStrike">
                <a:solidFill>
                  <a:srgbClr val="ffff00"/>
                </a:solidFill>
                <a:latin typeface="Gungsuh"/>
              </a:rPr>
              <a:t>my qualiti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"/>
          <p:cNvSpPr/>
          <p:nvPr/>
        </p:nvSpPr>
        <p:spPr>
          <a:xfrm>
            <a:off x="250920" y="2492280"/>
            <a:ext cx="165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236000" y="12682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0" y="1125360"/>
            <a:ext cx="3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0" y="1700280"/>
            <a:ext cx="46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39640" y="2637000"/>
            <a:ext cx="37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66ff66"/>
                </a:solidFill>
                <a:latin typeface="Arial Rounded MT Bold"/>
                <a:ea typeface="Arial"/>
              </a:rPr>
              <a:t>A great team play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11280" y="2060640"/>
            <a:ext cx="4464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0" y="2565360"/>
            <a:ext cx="50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84360" y="4292640"/>
            <a:ext cx="37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39640" y="35002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ffff"/>
                </a:solidFill>
                <a:latin typeface="Arial"/>
                <a:ea typeface="Arial"/>
              </a:rPr>
              <a:t>I take charge</a:t>
            </a:r>
            <a:r>
              <a:rPr b="0" lang="en-N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0" y="3284640"/>
            <a:ext cx="43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39640" y="4221000"/>
            <a:ext cx="223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66"/>
                </a:solidFill>
                <a:latin typeface="Arial Rounded MT Bold"/>
                <a:ea typeface="Arial"/>
              </a:rPr>
              <a:t>I am hard working and determined</a:t>
            </a:r>
            <a:r>
              <a:rPr b="1" lang="en-GB" sz="1800" spc="-1" strike="noStrike">
                <a:solidFill>
                  <a:srgbClr val="66ff66"/>
                </a:solidFill>
                <a:latin typeface="Arial Rounded MT Bold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148360" y="1052640"/>
            <a:ext cx="72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651640" y="1916280"/>
            <a:ext cx="251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00"/>
                </a:solidFill>
                <a:latin typeface="Arial Rounded MT Bold"/>
                <a:ea typeface="Arial"/>
              </a:rPr>
              <a:t>I love a physical challenge</a:t>
            </a:r>
            <a:r>
              <a:rPr b="0" lang="en-NZ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148360" y="2133720"/>
            <a:ext cx="50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148360" y="3357720"/>
            <a:ext cx="57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651640" y="429264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b800"/>
                </a:solidFill>
                <a:latin typeface="Arial"/>
                <a:ea typeface="Arial"/>
              </a:rPr>
              <a:t>I love to take big risk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11280" y="213372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  <a:ea typeface="Arial"/>
              </a:rPr>
              <a:t>I am persistent</a:t>
            </a:r>
            <a:r>
              <a:rPr b="0" lang="en-NZ" sz="2000" spc="-1" strike="noStrike">
                <a:solidFill>
                  <a:srgbClr val="ff33c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148360" y="4508640"/>
            <a:ext cx="43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580000" y="544500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'm physically fi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651640" y="314172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  <a:ea typeface="Arial"/>
              </a:rPr>
              <a:t>I have lots of courage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61960" cy="194940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2"/>
          <a:stretch/>
        </p:blipFill>
        <p:spPr>
          <a:xfrm rot="5947200">
            <a:off x="2545560" y="3942360"/>
            <a:ext cx="2376360" cy="1781280"/>
          </a:xfrm>
          <a:prstGeom prst="rect">
            <a:avLst/>
          </a:prstGeom>
          <a:ln w="0">
            <a:noFill/>
          </a:ln>
        </p:spPr>
      </p:pic>
      <p:sp>
        <p:nvSpPr>
          <p:cNvPr id="656" name="Music"/>
          <p:cNvSpPr/>
          <p:nvPr/>
        </p:nvSpPr>
        <p:spPr>
          <a:xfrm>
            <a:off x="7885080" y="5084640"/>
            <a:ext cx="720720" cy="6480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385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385" fill="hold"/>
                                        <p:tgtEl>
                                          <p:spTgt spid="6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385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385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10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50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5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5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5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25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3500"/>
                            </p:stCondLst>
                            <p:childTnLst>
                              <p:par>
                                <p:cTn id="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4500"/>
                            </p:stCondLst>
                            <p:childTnLst>
                              <p:par>
                                <p:cTn id="6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7300"/>
                            </p:stCondLst>
                            <p:childTnLst>
                              <p:par>
                                <p:cTn id="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9300"/>
                            </p:stCondLst>
                            <p:childTnLst>
                              <p:par>
                                <p:cTn id="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66ff66"/>
                </a:solidFill>
                <a:latin typeface="Arial"/>
              </a:rPr>
              <a:t>Sir Edmund Hillarys extreme qualities</a:t>
            </a:r>
            <a:r>
              <a:rPr b="0" lang="en-NZ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6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rot="787800">
            <a:off x="7020000" y="2349360"/>
            <a:ext cx="1398600" cy="142272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20585400">
            <a:off x="7524360" y="3644640"/>
            <a:ext cx="1058760" cy="139680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395280" y="765000"/>
            <a:ext cx="86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68360" y="170028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95280" y="2781360"/>
            <a:ext cx="93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95280" y="3860640"/>
            <a:ext cx="64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851280" y="765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851280" y="170028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900000" y="1700280"/>
            <a:ext cx="215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00"/>
                </a:solidFill>
                <a:latin typeface="Arial"/>
                <a:ea typeface="Arial"/>
              </a:rPr>
              <a:t>He was determined in what he d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826920" y="2637000"/>
            <a:ext cx="23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  <a:ea typeface="Arial"/>
              </a:rPr>
              <a:t>Sir Edmund Hillary loved a physical challen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826920" y="3716280"/>
            <a:ext cx="18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00"/>
                </a:solidFill>
                <a:latin typeface="Arial"/>
                <a:ea typeface="Arial"/>
              </a:rPr>
              <a:t>He conquered the highest mount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755640" y="4869000"/>
            <a:ext cx="201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  <a:ea typeface="Arial"/>
              </a:rPr>
              <a:t>He was determined and he pushed hard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284720" y="177336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Arial"/>
                <a:ea typeface="Arial"/>
              </a:rPr>
              <a:t>He was fearl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356000" y="2781360"/>
            <a:ext cx="20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cc00"/>
                </a:solidFill>
                <a:latin typeface="Arial"/>
                <a:ea typeface="Arial"/>
              </a:rPr>
              <a:t>He loved  to take huge risks</a:t>
            </a:r>
            <a:r>
              <a:rPr b="0" lang="en-NZ" sz="2000" spc="-1" strike="noStrike">
                <a:solidFill>
                  <a:srgbClr val="ff33c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5"/>
          <a:stretch/>
        </p:blipFill>
        <p:spPr>
          <a:xfrm rot="20291400">
            <a:off x="6659280" y="980640"/>
            <a:ext cx="1089000" cy="134928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>
            <a:off x="3780000" y="292428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284720" y="386064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e was physically fit and strong mind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780000" y="3789360"/>
            <a:ext cx="43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356000" y="4869000"/>
            <a:ext cx="2592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284720" y="479736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cc00"/>
                </a:solidFill>
                <a:latin typeface="Arial"/>
                <a:ea typeface="Arial"/>
              </a:rPr>
              <a:t>He is known around the worl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50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50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50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500"/>
                            </p:stCondLst>
                            <p:childTnLst>
                              <p:par>
                                <p:cTn id="9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200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200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20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25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3000"/>
                            </p:stCondLst>
                            <p:childTnLst>
                              <p:par>
                                <p:cTn id="14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2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5000"/>
                            </p:stCondLst>
                            <p:childTnLst>
                              <p:par>
                                <p:cTn id="1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1"/>
          <a:stretch/>
        </p:blipFill>
        <p:spPr>
          <a:xfrm>
            <a:off x="-252360" y="-17640"/>
            <a:ext cx="9721800" cy="687564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/>
          <p:nvPr/>
        </p:nvSpPr>
        <p:spPr>
          <a:xfrm>
            <a:off x="2627280" y="765000"/>
            <a:ext cx="144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 u="sng">
                <a:solidFill>
                  <a:srgbClr val="000000"/>
                </a:solidFill>
                <a:uFillTx/>
                <a:latin typeface="Bradley Hand ITC"/>
                <a:ea typeface="Arial"/>
              </a:rPr>
              <a:t>My differ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59640" y="692280"/>
            <a:ext cx="857160" cy="1104840"/>
          </a:xfrm>
          <a:prstGeom prst="rect">
            <a:avLst/>
          </a:prstGeom>
          <a:ln w="0">
            <a:noFill/>
          </a:ln>
        </p:spPr>
      </p:pic>
      <p:sp>
        <p:nvSpPr>
          <p:cNvPr id="682" name=""/>
          <p:cNvSpPr/>
          <p:nvPr/>
        </p:nvSpPr>
        <p:spPr>
          <a:xfrm>
            <a:off x="5292720" y="549360"/>
            <a:ext cx="1511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 u="sng">
                <a:solidFill>
                  <a:srgbClr val="000000"/>
                </a:solidFill>
                <a:uFillTx/>
                <a:latin typeface="Bradley Hand ITC"/>
                <a:ea typeface="Arial"/>
              </a:rPr>
              <a:t>Sir Edmund Hillary’s differ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635280" y="14130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ffff00"/>
                </a:solidFill>
                <a:latin typeface="Bradley Hand ITC"/>
                <a:ea typeface="Arial"/>
              </a:rPr>
              <a:t>Similar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780000" y="1700280"/>
            <a:ext cx="1584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33cc33"/>
                </a:solidFill>
                <a:latin typeface="Arial"/>
                <a:ea typeface="Arial"/>
              </a:rPr>
              <a:t>We love a physical challenge</a:t>
            </a:r>
            <a:r>
              <a:rPr b="0" lang="en-NZ" sz="2000" spc="-1" strike="noStrike">
                <a:solidFill>
                  <a:srgbClr val="33cc33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564000" y="256536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ffff"/>
                </a:solidFill>
                <a:latin typeface="Arial"/>
                <a:ea typeface="Arial"/>
              </a:rPr>
              <a:t>We take risks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276720" y="2924280"/>
            <a:ext cx="20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  <a:ea typeface="Arial"/>
              </a:rPr>
              <a:t>We are determined</a:t>
            </a:r>
            <a:r>
              <a:rPr b="0" lang="en-NZ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012000" y="1989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cc00"/>
                </a:solidFill>
                <a:latin typeface="Arial"/>
                <a:ea typeface="Arial"/>
              </a:rPr>
              <a:t>He is known around the worl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156360" y="2924280"/>
            <a:ext cx="277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He was the first man to conquer the highest mount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154560" y="3933720"/>
            <a:ext cx="199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66ff66"/>
                </a:solidFill>
                <a:latin typeface="Arial"/>
                <a:ea typeface="Arial"/>
              </a:rPr>
              <a:t>He was fearl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95280" y="5445000"/>
            <a:ext cx="6985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900000" y="2060640"/>
            <a:ext cx="244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419640" y="3357720"/>
            <a:ext cx="165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  <a:ea typeface="Arial"/>
              </a:rPr>
              <a:t>We are physically fit and strong min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050920" y="5950080"/>
            <a:ext cx="58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Sir Edmund Hillary and I are the same in many way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4"/>
          <a:stretch/>
        </p:blipFill>
        <p:spPr>
          <a:xfrm>
            <a:off x="1403280" y="692280"/>
            <a:ext cx="8254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7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6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760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81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8600"/>
                            </p:stCondLst>
                            <p:childTnLst>
                              <p:par>
                                <p:cTn id="18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9600"/>
                            </p:stCondLst>
                            <p:childTnLst>
                              <p:par>
                                <p:cTn id="1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100"/>
                            </p:stCondLst>
                            <p:childTnLst>
                              <p:par>
                                <p:cTn id="1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74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1240"/>
                            </p:stCondLst>
                            <p:childTnLst>
                              <p:par>
                                <p:cTn id="20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96" name=""/>
          <p:cNvSpPr/>
          <p:nvPr/>
        </p:nvSpPr>
        <p:spPr>
          <a:xfrm>
            <a:off x="116280" y="476280"/>
            <a:ext cx="487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Blackadder ITC"/>
              </a:rPr>
              <a:t>My learning go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7" name="" descr=""/>
          <p:cNvPicPr/>
          <p:nvPr/>
        </p:nvPicPr>
        <p:blipFill>
          <a:blip r:embed="rId2"/>
          <a:stretch/>
        </p:blipFill>
        <p:spPr>
          <a:xfrm rot="1485600">
            <a:off x="4886280" y="1976400"/>
            <a:ext cx="2160720" cy="287964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/>
          <p:nvPr/>
        </p:nvSpPr>
        <p:spPr>
          <a:xfrm>
            <a:off x="250920" y="1700280"/>
            <a:ext cx="4232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Bradley Hand ITC"/>
                <a:ea typeface="Arial"/>
              </a:rPr>
              <a:t>Improve my reading comprehension to increase my stanine score from four to six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9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2"/>
          <a:stretch/>
        </p:blipFill>
        <p:spPr>
          <a:xfrm>
            <a:off x="468360" y="537372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3"/>
          <a:stretch/>
        </p:blipFill>
        <p:spPr>
          <a:xfrm>
            <a:off x="5364000" y="0"/>
            <a:ext cx="1152720" cy="108756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4"/>
          <a:stretch/>
        </p:blipFill>
        <p:spPr>
          <a:xfrm>
            <a:off x="4716360" y="148428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5"/>
          <a:stretch/>
        </p:blipFill>
        <p:spPr>
          <a:xfrm>
            <a:off x="7236000" y="314172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6"/>
          <a:stretch/>
        </p:blipFill>
        <p:spPr>
          <a:xfrm>
            <a:off x="4788000" y="522936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>
            <a:off x="684360" y="5516640"/>
            <a:ext cx="81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33cc33"/>
                </a:solidFill>
                <a:latin typeface="Arial"/>
              </a:rPr>
              <a:t>camp 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51680" y="538200"/>
            <a:ext cx="414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Blackadder ITC"/>
              </a:rPr>
              <a:t>My Exped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68360" y="155736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Bradley Hand ITC"/>
                <a:ea typeface="Arial"/>
              </a:rPr>
              <a:t>Four camps to suc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547640" y="5805360"/>
            <a:ext cx="1800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476360" y="530064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Learn to   identify key words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867280" y="5229360"/>
            <a:ext cx="172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Learn to skim and scan</a:t>
            </a:r>
            <a:r>
              <a:rPr b="1" lang="en-N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5003640" y="5373720"/>
            <a:ext cx="81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33cc33"/>
                </a:solidFill>
                <a:latin typeface="Arial"/>
              </a:rPr>
              <a:t>Camp tw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451640" y="3284640"/>
            <a:ext cx="81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33cc33"/>
                </a:solidFill>
                <a:latin typeface="Arial"/>
              </a:rPr>
              <a:t>Camp thre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003640" y="1628640"/>
            <a:ext cx="81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33cc33"/>
                </a:solidFill>
                <a:latin typeface="Arial"/>
              </a:rPr>
              <a:t>Camp fou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580000" y="3068640"/>
            <a:ext cx="165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Retelling in short sentences using key wo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651640" y="1773360"/>
            <a:ext cx="28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Teacher conferenc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796000" y="836640"/>
            <a:ext cx="201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867280" y="69228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I made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10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500"/>
                            </p:stCondLst>
                            <p:childTnLst>
                              <p:par>
                                <p:cTn id="25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500"/>
                            </p:stCondLst>
                            <p:childTnLst>
                              <p:par>
                                <p:cTn id="25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7500"/>
                            </p:stCondLst>
                            <p:childTnLst>
                              <p:par>
                                <p:cTn id="26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21:23:28Z</dcterms:created>
  <dc:creator>Ministry of Education</dc:creator>
  <dc:description/>
  <dc:language>en-US</dc:language>
  <cp:lastModifiedBy>Student2</cp:lastModifiedBy>
  <dcterms:modified xsi:type="dcterms:W3CDTF">2008-04-15T00:47:30Z</dcterms:modified>
  <cp:revision>15</cp:revision>
  <dc:subject/>
  <dc:title>Title slid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